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204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204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680082E-0C69-4A51-AB51-8038AA6913C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432400" y="6937200"/>
            <a:ext cx="415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03F4CCF-0637-4431-B920-8AE8DC3BF9C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4A4-6F90-4D5C-8E17-E669095A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168-91D7-4E48-823A-4BE74BB5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90C-43D4-4201-B3B6-58C2EC00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974-4F9B-4074-93A4-19D32F45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E1A-DF34-47A5-A440-C9C2268B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089-3AF4-43E3-8BE4-CE11266D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E4A-6CEB-428E-A7AF-2ECFB5BD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2EE-E111-4A3C-BB38-06395563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09C-4D1B-460B-85CB-8D13745B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DC5-BDEB-4E6F-9D32-996D7BDE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54A-B007-4ABF-B7EE-3A670B4B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D8D-FA18-4ED8-BBF2-97A17CF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FBD2-9DAA-483A-8E90-78137DEE9C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cw.mit.edu/term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9, 2010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x Flows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flow-Push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7353-64B5-4078-B31E-86B9E553F37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using current arc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21932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019920" y="1523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4 is active, and has exc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Group 35"/>
          <p:cNvGrpSpPr/>
          <p:nvPr/>
        </p:nvGrpSpPr>
        <p:grpSpPr>
          <a:xfrm>
            <a:off x="0" y="3733920"/>
            <a:ext cx="4572000" cy="2898000"/>
            <a:chOff x="0" y="3733920"/>
            <a:chExt cx="4572000" cy="2898000"/>
          </a:xfrm>
        </p:grpSpPr>
        <p:sp>
          <p:nvSpPr>
            <p:cNvPr id="226" name="Text Box 7"/>
            <p:cNvSpPr/>
            <p:nvPr/>
          </p:nvSpPr>
          <p:spPr>
            <a:xfrm>
              <a:off x="53352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838080" y="5181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67652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89548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3657600" y="518148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289548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67652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1219320" y="4571640"/>
              <a:ext cx="533160" cy="60948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1295280" y="4572000"/>
              <a:ext cx="167652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295280" y="5486400"/>
              <a:ext cx="2438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219320" y="5562720"/>
              <a:ext cx="1752480" cy="6858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143000" y="5638680"/>
              <a:ext cx="533520" cy="60984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16765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29718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41148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335268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13372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0" y="4648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4) =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4876920" y="3733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arcs in A(4) one at a time using “Current Arc” till an admissible arc is f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04920" y="1295280"/>
            <a:ext cx="1218960" cy="762120"/>
            <a:chOff x="304920" y="1295280"/>
            <a:chExt cx="1218960" cy="762120"/>
          </a:xfrm>
        </p:grpSpPr>
        <p:sp>
          <p:nvSpPr>
            <p:cNvPr id="246" name="Rectangle 27"/>
            <p:cNvSpPr/>
            <p:nvPr/>
          </p:nvSpPr>
          <p:spPr>
            <a:xfrm>
              <a:off x="30492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53352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Group 30"/>
          <p:cNvGrpSpPr/>
          <p:nvPr/>
        </p:nvGrpSpPr>
        <p:grpSpPr>
          <a:xfrm>
            <a:off x="304920" y="1752480"/>
            <a:ext cx="1218960" cy="762120"/>
            <a:chOff x="304920" y="1752480"/>
            <a:chExt cx="1218960" cy="762120"/>
          </a:xfrm>
        </p:grpSpPr>
        <p:sp>
          <p:nvSpPr>
            <p:cNvPr id="249" name="Rectangle 31"/>
            <p:cNvSpPr/>
            <p:nvPr/>
          </p:nvSpPr>
          <p:spPr>
            <a:xfrm>
              <a:off x="30492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53352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Text Box 33"/>
          <p:cNvSpPr/>
          <p:nvPr/>
        </p:nvSpPr>
        <p:spPr>
          <a:xfrm>
            <a:off x="510552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on (4,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9863-0936-441C-8874-70BA0211F4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1371600" y="990720"/>
          <a:ext cx="454500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4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33520" y="25146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7913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800600" y="3809880"/>
            <a:ext cx="41911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min (e(4),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= 2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3352680" y="2362320"/>
            <a:ext cx="60984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4800600" y="567072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next push from node 4, start with arc (4,3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4800600" y="472428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371600" y="5486400"/>
            <a:ext cx="2286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35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2731-6D6E-414D-B259-72D0B87AFDC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172200" y="3429000"/>
            <a:ext cx="25909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Preflow Push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CBF-8255-4181-8F27-2D462E69302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view of Results on Goldberg-Tarja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T algorithm is superb both in theory and in practi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the flow into t is v* after the “while loop.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show the following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ance labels stay valid after a push and after a relabel.  They never go down in a relabe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possible to convert the preflow into an s-t flow with a feasible flow out of s (and into t) equal to v*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cut with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preflow with max flow into 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minimum s-t c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unning time of the algorithm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140A-AE31-46B1-A523-DD92CED99A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remain vali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7" name="Group 24"/>
          <p:cNvGrpSpPr/>
          <p:nvPr/>
        </p:nvGrpSpPr>
        <p:grpSpPr>
          <a:xfrm>
            <a:off x="-76320" y="1981080"/>
            <a:ext cx="1828800" cy="4421880"/>
            <a:chOff x="-76320" y="1981080"/>
            <a:chExt cx="1828800" cy="4421880"/>
          </a:xfrm>
        </p:grpSpPr>
        <p:sp>
          <p:nvSpPr>
            <p:cNvPr id="298" name="Line 29"/>
            <p:cNvSpPr/>
            <p:nvPr/>
          </p:nvSpPr>
          <p:spPr>
            <a:xfrm>
              <a:off x="91440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15228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31"/>
            <p:cNvSpPr/>
            <p:nvPr/>
          </p:nvSpPr>
          <p:spPr>
            <a:xfrm>
              <a:off x="68580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>
              <a:off x="68580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37"/>
            <p:cNvSpPr/>
            <p:nvPr/>
          </p:nvSpPr>
          <p:spPr>
            <a:xfrm>
              <a:off x="1522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-76320" y="3260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15228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914400" y="1981080"/>
              <a:ext cx="1440" cy="1508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85800" y="3489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838080" y="4038480"/>
              <a:ext cx="74520" cy="521640"/>
              <a:chOff x="838080" y="4038480"/>
              <a:chExt cx="74520" cy="521640"/>
            </a:xfrm>
          </p:grpSpPr>
          <p:sp>
            <p:nvSpPr>
              <p:cNvPr id="308" name="Oval 89"/>
              <p:cNvSpPr/>
              <p:nvPr/>
            </p:nvSpPr>
            <p:spPr>
              <a:xfrm>
                <a:off x="838080" y="40384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Oval 89"/>
              <p:cNvSpPr/>
              <p:nvPr/>
            </p:nvSpPr>
            <p:spPr>
              <a:xfrm>
                <a:off x="838080" y="42620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89"/>
              <p:cNvSpPr/>
              <p:nvPr/>
            </p:nvSpPr>
            <p:spPr>
              <a:xfrm>
                <a:off x="838080" y="448560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Oval 89"/>
            <p:cNvSpPr/>
            <p:nvPr/>
          </p:nvSpPr>
          <p:spPr>
            <a:xfrm>
              <a:off x="137160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Oval 89"/>
            <p:cNvSpPr/>
            <p:nvPr/>
          </p:nvSpPr>
          <p:spPr>
            <a:xfrm>
              <a:off x="1371600" y="2285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2"/>
            <p:cNvSpPr/>
            <p:nvPr/>
          </p:nvSpPr>
          <p:spPr>
            <a:xfrm>
              <a:off x="685800" y="2438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Oval 89"/>
            <p:cNvSpPr/>
            <p:nvPr/>
          </p:nvSpPr>
          <p:spPr>
            <a:xfrm>
              <a:off x="1371600" y="33526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>
              <a:off x="1523880" y="259056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Text Box 41"/>
          <p:cNvSpPr/>
          <p:nvPr/>
        </p:nvSpPr>
        <p:spPr>
          <a:xfrm>
            <a:off x="2271600" y="2819520"/>
            <a:ext cx="64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we push flow in (i, j) when d(i) = k and d(j) = k - 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alidity remains satisfied for all arcs of G(x).  And it is also satisfied for arc (j, i).  That is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(j) ≤ d(i) + 1 = k+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41"/>
          <p:cNvSpPr/>
          <p:nvPr/>
        </p:nvSpPr>
        <p:spPr>
          <a:xfrm>
            <a:off x="2286000" y="9907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 be the flow before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flow after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re is at most one arc in G(x’) that is not in G(x), and that arc is (j, i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41"/>
          <p:cNvSpPr/>
          <p:nvPr/>
        </p:nvSpPr>
        <p:spPr>
          <a:xfrm>
            <a:off x="2286000" y="5105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efore a relabel of node i, the distance labels are valid, but no arc out of i is admissible.  So, in a relabel of node i, d(i) must increas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C25A-E7B7-43FF-8142-8882D4E1625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verting any preflow into a 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x’ be any preflow at some stage of the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 x’ using flow decom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228600" y="1981080"/>
            <a:ext cx="4952880" cy="2927880"/>
            <a:chOff x="228600" y="1981080"/>
            <a:chExt cx="4952880" cy="2927880"/>
          </a:xfrm>
        </p:grpSpPr>
        <p:sp>
          <p:nvSpPr>
            <p:cNvPr id="323" name="Oval 4"/>
            <p:cNvSpPr/>
            <p:nvPr/>
          </p:nvSpPr>
          <p:spPr>
            <a:xfrm>
              <a:off x="97632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2562120" y="3193920"/>
              <a:ext cx="40968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8292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414648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V="1">
              <a:off x="1328760" y="2665440"/>
              <a:ext cx="587520" cy="587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1270080" y="3605040"/>
              <a:ext cx="587160" cy="64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2209680" y="248904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38744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151000" y="2606760"/>
              <a:ext cx="58752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97180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2209680" y="354600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735360" y="2606760"/>
              <a:ext cx="52884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1585800" y="1995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2043000" y="4510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2562120" y="3616200"/>
              <a:ext cx="3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359568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23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2881440" y="2604960"/>
              <a:ext cx="60948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 flipV="1">
              <a:off x="2119320" y="359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6483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29"/>
            <p:cNvSpPr/>
            <p:nvPr/>
          </p:nvSpPr>
          <p:spPr>
            <a:xfrm>
              <a:off x="1295280" y="26668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30"/>
            <p:cNvSpPr/>
            <p:nvPr/>
          </p:nvSpPr>
          <p:spPr>
            <a:xfrm>
              <a:off x="175248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31"/>
            <p:cNvSpPr/>
            <p:nvPr/>
          </p:nvSpPr>
          <p:spPr>
            <a:xfrm>
              <a:off x="1219320" y="38862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2514600" y="21337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2362320" y="25909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34"/>
            <p:cNvSpPr/>
            <p:nvPr/>
          </p:nvSpPr>
          <p:spPr>
            <a:xfrm>
              <a:off x="3124080" y="28195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35"/>
            <p:cNvSpPr/>
            <p:nvPr/>
          </p:nvSpPr>
          <p:spPr>
            <a:xfrm>
              <a:off x="3886200" y="2514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36"/>
            <p:cNvSpPr/>
            <p:nvPr/>
          </p:nvSpPr>
          <p:spPr>
            <a:xfrm>
              <a:off x="19810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Text Box 37"/>
            <p:cNvSpPr/>
            <p:nvPr/>
          </p:nvSpPr>
          <p:spPr>
            <a:xfrm>
              <a:off x="350532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Text Box 38"/>
            <p:cNvSpPr/>
            <p:nvPr/>
          </p:nvSpPr>
          <p:spPr>
            <a:xfrm>
              <a:off x="3124080" y="4038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2286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7" name="Text Box 41"/>
          <p:cNvSpPr/>
          <p:nvPr/>
        </p:nvSpPr>
        <p:spPr>
          <a:xfrm>
            <a:off x="304920" y="5257800"/>
            <a:ext cx="54864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ote:  s is the only node with defici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58"/>
          <p:cNvGrpSpPr/>
          <p:nvPr/>
        </p:nvGrpSpPr>
        <p:grpSpPr>
          <a:xfrm>
            <a:off x="6324480" y="1981080"/>
            <a:ext cx="2819160" cy="3447000"/>
            <a:chOff x="6324480" y="1981080"/>
            <a:chExt cx="2819160" cy="3447000"/>
          </a:xfrm>
        </p:grpSpPr>
        <p:sp>
          <p:nvSpPr>
            <p:cNvPr id="359" name="Text Box 43"/>
            <p:cNvSpPr/>
            <p:nvPr/>
          </p:nvSpPr>
          <p:spPr>
            <a:xfrm>
              <a:off x="81532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3244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a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64004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82292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47"/>
            <p:cNvSpPr/>
            <p:nvPr/>
          </p:nvSpPr>
          <p:spPr>
            <a:xfrm>
              <a:off x="640044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2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8229240" y="29718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49"/>
            <p:cNvSpPr/>
            <p:nvPr/>
          </p:nvSpPr>
          <p:spPr>
            <a:xfrm>
              <a:off x="6400440" y="3505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50"/>
            <p:cNvSpPr/>
            <p:nvPr/>
          </p:nvSpPr>
          <p:spPr>
            <a:xfrm>
              <a:off x="8229240" y="3505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51"/>
            <p:cNvSpPr/>
            <p:nvPr/>
          </p:nvSpPr>
          <p:spPr>
            <a:xfrm>
              <a:off x="640044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-1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Text Box 52"/>
            <p:cNvSpPr/>
            <p:nvPr/>
          </p:nvSpPr>
          <p:spPr>
            <a:xfrm>
              <a:off x="822924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Text Box 53"/>
            <p:cNvSpPr/>
            <p:nvPr/>
          </p:nvSpPr>
          <p:spPr>
            <a:xfrm>
              <a:off x="640044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2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Text Box 54"/>
            <p:cNvSpPr/>
            <p:nvPr/>
          </p:nvSpPr>
          <p:spPr>
            <a:xfrm>
              <a:off x="8229240" y="44956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Text Box 55"/>
            <p:cNvSpPr/>
            <p:nvPr/>
          </p:nvSpPr>
          <p:spPr>
            <a:xfrm>
              <a:off x="6400440" y="5029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Text Box 56"/>
            <p:cNvSpPr/>
            <p:nvPr/>
          </p:nvSpPr>
          <p:spPr>
            <a:xfrm>
              <a:off x="8229240" y="50292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3" name="Text Box 57"/>
          <p:cNvSpPr/>
          <p:nvPr/>
        </p:nvSpPr>
        <p:spPr>
          <a:xfrm>
            <a:off x="304920" y="5742000"/>
            <a:ext cx="853416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feasible flow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s the sum of the flows on paths from s to 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59"/>
          <p:cNvSpPr/>
          <p:nvPr/>
        </p:nvSpPr>
        <p:spPr>
          <a:xfrm>
            <a:off x="304920" y="6221520"/>
            <a:ext cx="70866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flow into t is the same for the flow and preflo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6172200" y="396252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689B-4B78-4B93-B784-0718C80C16F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ding 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( ) be the distance labels at the end of the algorith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k* be the minimum positive value such that there is a gap at level k*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* = {j : d*(j) &lt; k*}.   Let T* = {j : d(j*) &gt; k*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*, T*) is a minimum capacity cut, and the capacity of the cut is the amount of flow in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8711-3A9A-4A5A-BC18-49F34AA129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3657600" y="1069920"/>
            <a:ext cx="5257800" cy="2019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arc (i, j) from S* to T*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G(x*) because for each arc (i, 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∈ G(x*)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d(i) ≤ d(j)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S* and j ∈ T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T* and j ∈ S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4572000" y="3355920"/>
            <a:ext cx="388620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excess at a node of T* because the algorithm termin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3" name="Group 61"/>
          <p:cNvGrpSpPr/>
          <p:nvPr/>
        </p:nvGrpSpPr>
        <p:grpSpPr>
          <a:xfrm>
            <a:off x="152280" y="1371600"/>
            <a:ext cx="4114800" cy="5031360"/>
            <a:chOff x="152280" y="1371600"/>
            <a:chExt cx="4114800" cy="5031360"/>
          </a:xfrm>
        </p:grpSpPr>
        <p:sp>
          <p:nvSpPr>
            <p:cNvPr id="38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37"/>
            <p:cNvSpPr/>
            <p:nvPr/>
          </p:nvSpPr>
          <p:spPr>
            <a:xfrm>
              <a:off x="152280" y="31845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Oval 42"/>
            <p:cNvSpPr/>
            <p:nvPr/>
          </p:nvSpPr>
          <p:spPr>
            <a:xfrm>
              <a:off x="1676160" y="61722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676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Oval 89"/>
            <p:cNvSpPr/>
            <p:nvPr/>
          </p:nvSpPr>
          <p:spPr>
            <a:xfrm>
              <a:off x="1676160" y="41148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00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3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838080" y="3733920"/>
              <a:ext cx="3429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12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5" name="Oval 89"/>
            <p:cNvSpPr/>
            <p:nvPr/>
          </p:nvSpPr>
          <p:spPr>
            <a:xfrm>
              <a:off x="167616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Oval 89"/>
            <p:cNvSpPr/>
            <p:nvPr/>
          </p:nvSpPr>
          <p:spPr>
            <a:xfrm>
              <a:off x="1676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Oval 89"/>
            <p:cNvSpPr/>
            <p:nvPr/>
          </p:nvSpPr>
          <p:spPr>
            <a:xfrm>
              <a:off x="167616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9"/>
            <p:cNvSpPr/>
            <p:nvPr/>
          </p:nvSpPr>
          <p:spPr>
            <a:xfrm>
              <a:off x="1676160" y="57913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89"/>
            <p:cNvSpPr/>
            <p:nvPr/>
          </p:nvSpPr>
          <p:spPr>
            <a:xfrm>
              <a:off x="228600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838080" y="3809880"/>
              <a:ext cx="3429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65"/>
            <p:cNvSpPr/>
            <p:nvPr/>
          </p:nvSpPr>
          <p:spPr>
            <a:xfrm>
              <a:off x="167616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65"/>
            <p:cNvSpPr/>
            <p:nvPr/>
          </p:nvSpPr>
          <p:spPr>
            <a:xfrm>
              <a:off x="167616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65"/>
            <p:cNvSpPr/>
            <p:nvPr/>
          </p:nvSpPr>
          <p:spPr>
            <a:xfrm>
              <a:off x="1676160" y="3352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167616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228600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28600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65"/>
            <p:cNvSpPr/>
            <p:nvPr/>
          </p:nvSpPr>
          <p:spPr>
            <a:xfrm>
              <a:off x="2819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65"/>
            <p:cNvSpPr/>
            <p:nvPr/>
          </p:nvSpPr>
          <p:spPr>
            <a:xfrm>
              <a:off x="228600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228600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Oval 89"/>
            <p:cNvSpPr/>
            <p:nvPr/>
          </p:nvSpPr>
          <p:spPr>
            <a:xfrm>
              <a:off x="2819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2743200" y="167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S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2666880" y="5729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T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Group 62"/>
          <p:cNvGrpSpPr/>
          <p:nvPr/>
        </p:nvGrpSpPr>
        <p:grpSpPr>
          <a:xfrm>
            <a:off x="2819520" y="2895480"/>
            <a:ext cx="1600200" cy="1618200"/>
            <a:chOff x="2819520" y="2895480"/>
            <a:chExt cx="1600200" cy="1618200"/>
          </a:xfrm>
        </p:grpSpPr>
        <p:sp>
          <p:nvSpPr>
            <p:cNvPr id="435" name="Oval 65"/>
            <p:cNvSpPr/>
            <p:nvPr/>
          </p:nvSpPr>
          <p:spPr>
            <a:xfrm>
              <a:off x="2819520" y="28954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Oval 89"/>
            <p:cNvSpPr/>
            <p:nvPr/>
          </p:nvSpPr>
          <p:spPr>
            <a:xfrm>
              <a:off x="2819520" y="4114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971800" y="33526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41"/>
            <p:cNvSpPr/>
            <p:nvPr/>
          </p:nvSpPr>
          <p:spPr>
            <a:xfrm>
              <a:off x="3353040" y="411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j) = 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Text Box 40"/>
          <p:cNvSpPr/>
          <p:nvPr/>
        </p:nvSpPr>
        <p:spPr>
          <a:xfrm>
            <a:off x="4114800" y="4800600"/>
            <a:ext cx="44197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flow v* into 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* = CAP(S*, T*) because any flow across the cut must go to t.  (Same as in proof of max-flow min-cut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0C15-A256-4107-A89B-9A3428570D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hing happened to the actors in the first English play in America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arrested.  Acting was considered ev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as the first country to give women the vo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Zealand, in 189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irst phone book ever issued was in New Haven, CT.  How many names were in the book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.  It was published in 187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23EF-498D-4637-A608-E217ADFC69E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2280" y="1000080"/>
            <a:ext cx="8763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London, in the 1700s, one could purchase insurance for a particularly catastrophic event.  But it was not clear how one could prove the event happened.  What was the even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 could insure against going to He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obby Beach survived a barrel ride over Niagara Falls.   He died many years later.  What was the cause of his death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slipped on a banana pea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ative Americans did not eat turkey at the time of the Pilgrims.  Why no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thought that killing such a timid bird indicated lazines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C69A-D3F8-4A61-A91E-C0A4DD9B92C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view of Augmenting Path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: maintain a flow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(x) b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find a path from s to t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augmenting path algorithm, we kept distance labels d( ), and we sent flow along the shortest path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029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lecture:  present and analyze a different type of max flow algorithm called preflow-push. New analysis technique:  potential function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CDA6-90E1-499A-826A-04CD25D0FD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iteness and Running Ti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relabel all nod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saturating push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spent scanning arcs that are not admissible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non-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preflow push algorithm is finite.  Its running time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2180-A429-44E2-8500-C2A90C9F79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53" name="Group 36"/>
          <p:cNvGrpSpPr/>
          <p:nvPr/>
        </p:nvGrpSpPr>
        <p:grpSpPr>
          <a:xfrm>
            <a:off x="152280" y="1371600"/>
            <a:ext cx="1752840" cy="5031360"/>
            <a:chOff x="152280" y="1371600"/>
            <a:chExt cx="1752840" cy="5031360"/>
          </a:xfrm>
        </p:grpSpPr>
        <p:sp>
          <p:nvSpPr>
            <p:cNvPr id="45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Text Box 37"/>
            <p:cNvSpPr/>
            <p:nvPr/>
          </p:nvSpPr>
          <p:spPr>
            <a:xfrm>
              <a:off x="152280" y="31845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6" name="Group 16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67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78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1" name="Oval 65"/>
            <p:cNvSpPr/>
            <p:nvPr/>
          </p:nvSpPr>
          <p:spPr>
            <a:xfrm>
              <a:off x="1524240" y="22096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3" name="Text Box 41"/>
          <p:cNvSpPr/>
          <p:nvPr/>
        </p:nvSpPr>
        <p:spPr>
          <a:xfrm>
            <a:off x="2514600" y="13716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d(i) ≥ n, then there must be a gap at some distance level less than n because there are at most n-2 remaining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2590920" y="2819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, each node is relabeled at most n tim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Text Box 41"/>
          <p:cNvSpPr/>
          <p:nvPr/>
        </p:nvSpPr>
        <p:spPr>
          <a:xfrm>
            <a:off x="2590920" y="396252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ime to relabel nodes 1 to n at most once is O(m) since each arc out of node j must be scanned for each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2590920" y="54100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the time to relabel each nodes 1 to n at most n times is 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675B-5CB6-42A8-ACC1-CC4A162C39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2514600" y="13716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that (i, j) is saturated when d(i) = k.  It cannot be saturated again until d(i) ≥ k+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2514600" y="2666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capacity in (i, j) until flow is sent in (j, i).  At that point d(j) ≥ k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1"/>
          <p:cNvSpPr/>
          <p:nvPr/>
        </p:nvSpPr>
        <p:spPr>
          <a:xfrm>
            <a:off x="2514600" y="3886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(i, j) cannot be saturated again until it is admissible.  Then d(i) = d(j) + 1 ≥ k + 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2590920" y="50292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each arc (i, j) is saturated at most n/2 times.  The number of saturating pushes is O(nm) and the running time for saturating pushe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3" name="Group 31"/>
          <p:cNvGrpSpPr/>
          <p:nvPr/>
        </p:nvGrpSpPr>
        <p:grpSpPr>
          <a:xfrm>
            <a:off x="76320" y="1752480"/>
            <a:ext cx="1828800" cy="4650480"/>
            <a:chOff x="76320" y="1752480"/>
            <a:chExt cx="1828800" cy="4650480"/>
          </a:xfrm>
        </p:grpSpPr>
        <p:sp>
          <p:nvSpPr>
            <p:cNvPr id="494" name="Line 29"/>
            <p:cNvSpPr/>
            <p:nvPr/>
          </p:nvSpPr>
          <p:spPr>
            <a:xfrm>
              <a:off x="106704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30492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>
              <a:off x="83844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838440" y="5715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83844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Text Box 37"/>
            <p:cNvSpPr/>
            <p:nvPr/>
          </p:nvSpPr>
          <p:spPr>
            <a:xfrm>
              <a:off x="15228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Text Box 38"/>
            <p:cNvSpPr/>
            <p:nvPr/>
          </p:nvSpPr>
          <p:spPr>
            <a:xfrm>
              <a:off x="22860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Text Box 39"/>
            <p:cNvSpPr/>
            <p:nvPr/>
          </p:nvSpPr>
          <p:spPr>
            <a:xfrm>
              <a:off x="76320" y="3946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Text Box 40"/>
            <p:cNvSpPr/>
            <p:nvPr/>
          </p:nvSpPr>
          <p:spPr>
            <a:xfrm>
              <a:off x="3049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Text Box 41"/>
            <p:cNvSpPr/>
            <p:nvPr/>
          </p:nvSpPr>
          <p:spPr>
            <a:xfrm>
              <a:off x="304920" y="54864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067040" y="1752480"/>
              <a:ext cx="1440" cy="2422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31"/>
            <p:cNvSpPr/>
            <p:nvPr/>
          </p:nvSpPr>
          <p:spPr>
            <a:xfrm>
              <a:off x="838440" y="41749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33"/>
            <p:cNvSpPr/>
            <p:nvPr/>
          </p:nvSpPr>
          <p:spPr>
            <a:xfrm>
              <a:off x="838440" y="3124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7" name="Group 26"/>
            <p:cNvGrpSpPr/>
            <p:nvPr/>
          </p:nvGrpSpPr>
          <p:grpSpPr>
            <a:xfrm>
              <a:off x="1028880" y="4419720"/>
              <a:ext cx="74520" cy="521640"/>
              <a:chOff x="1028880" y="4419720"/>
              <a:chExt cx="74520" cy="521640"/>
            </a:xfrm>
          </p:grpSpPr>
          <p:sp>
            <p:nvSpPr>
              <p:cNvPr id="508" name="Oval 89"/>
              <p:cNvSpPr/>
              <p:nvPr/>
            </p:nvSpPr>
            <p:spPr>
              <a:xfrm>
                <a:off x="102888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Oval 89"/>
              <p:cNvSpPr/>
              <p:nvPr/>
            </p:nvSpPr>
            <p:spPr>
              <a:xfrm>
                <a:off x="102888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Oval 89"/>
              <p:cNvSpPr/>
              <p:nvPr/>
            </p:nvSpPr>
            <p:spPr>
              <a:xfrm>
                <a:off x="102888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1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32"/>
            <p:cNvSpPr/>
            <p:nvPr/>
          </p:nvSpPr>
          <p:spPr>
            <a:xfrm>
              <a:off x="838440" y="3657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33"/>
            <p:cNvSpPr/>
            <p:nvPr/>
          </p:nvSpPr>
          <p:spPr>
            <a:xfrm>
              <a:off x="838440" y="25905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33"/>
            <p:cNvSpPr/>
            <p:nvPr/>
          </p:nvSpPr>
          <p:spPr>
            <a:xfrm>
              <a:off x="838440" y="1981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Text Box 37"/>
            <p:cNvSpPr/>
            <p:nvPr/>
          </p:nvSpPr>
          <p:spPr>
            <a:xfrm>
              <a:off x="152280" y="2361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6" name="Oval 89"/>
          <p:cNvSpPr/>
          <p:nvPr/>
        </p:nvSpPr>
        <p:spPr>
          <a:xfrm>
            <a:off x="1523880" y="35053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1523880" y="403848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6667 E">
                                      <p:cBhvr>
                                        <p:cTn id="339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3.33333E-006 C 0.02483 -0.02546 0.04219 -0.05069 0.0408 -0.07685 C 0.03959 -0.10277 0.00677 -0.14236 -3.33333E-006 -0.15555 E">
                                      <p:cBhvr>
                                        <p:cTn id="3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8FAA-EDFE-47B8-953B-A7980B1558D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mma 3 and scanning arcs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6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22860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13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152280" y="1295280"/>
            <a:ext cx="1143000" cy="762120"/>
            <a:chOff x="152280" y="1295280"/>
            <a:chExt cx="1143000" cy="762120"/>
          </a:xfrm>
        </p:grpSpPr>
        <p:sp>
          <p:nvSpPr>
            <p:cNvPr id="542" name="Rectangle 26"/>
            <p:cNvSpPr/>
            <p:nvPr/>
          </p:nvSpPr>
          <p:spPr>
            <a:xfrm>
              <a:off x="152280" y="1295280"/>
              <a:ext cx="114300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366480" y="2057400"/>
              <a:ext cx="785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0" y="1828800"/>
            <a:ext cx="1218960" cy="762120"/>
            <a:chOff x="0" y="1828800"/>
            <a:chExt cx="1218960" cy="762120"/>
          </a:xfrm>
        </p:grpSpPr>
        <p:sp>
          <p:nvSpPr>
            <p:cNvPr id="545" name="Rectangle 29"/>
            <p:cNvSpPr/>
            <p:nvPr/>
          </p:nvSpPr>
          <p:spPr>
            <a:xfrm>
              <a:off x="0" y="182880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228600" y="25909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5410080" y="106668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in A(i) are scanned in order.  If arc (i, j) is not admissible, it cannot become admissible until i is relabeled agai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5410080" y="304812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1) has no capacity.  It cannot get capacity until flow is sent in (1, 4) at which point d(1) is at least 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5410080" y="5029200"/>
            <a:ext cx="35053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2) has capacity but it is not admissible.  It will not become admissible until d(4) increas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1A81-F34D-45DD-9CAA-F9039632233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3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2860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13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5" name="Group 23"/>
          <p:cNvGrpSpPr/>
          <p:nvPr/>
        </p:nvGrpSpPr>
        <p:grpSpPr>
          <a:xfrm>
            <a:off x="0" y="1295280"/>
            <a:ext cx="1218960" cy="762120"/>
            <a:chOff x="0" y="1295280"/>
            <a:chExt cx="1218960" cy="762120"/>
          </a:xfrm>
        </p:grpSpPr>
        <p:sp>
          <p:nvSpPr>
            <p:cNvPr id="576" name="Rectangle 24"/>
            <p:cNvSpPr/>
            <p:nvPr/>
          </p:nvSpPr>
          <p:spPr>
            <a:xfrm>
              <a:off x="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Line 25"/>
            <p:cNvSpPr/>
            <p:nvPr/>
          </p:nvSpPr>
          <p:spPr>
            <a:xfrm>
              <a:off x="22860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8" name="Group 26"/>
          <p:cNvGrpSpPr/>
          <p:nvPr/>
        </p:nvGrpSpPr>
        <p:grpSpPr>
          <a:xfrm>
            <a:off x="0" y="1752480"/>
            <a:ext cx="1218960" cy="762120"/>
            <a:chOff x="0" y="1752480"/>
            <a:chExt cx="1218960" cy="762120"/>
          </a:xfrm>
        </p:grpSpPr>
        <p:sp>
          <p:nvSpPr>
            <p:cNvPr id="579" name="Rectangle 27"/>
            <p:cNvSpPr/>
            <p:nvPr/>
          </p:nvSpPr>
          <p:spPr>
            <a:xfrm>
              <a:off x="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Line 28"/>
            <p:cNvSpPr/>
            <p:nvPr/>
          </p:nvSpPr>
          <p:spPr>
            <a:xfrm>
              <a:off x="22860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1" name="Text Box 29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Line 30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Rectangle 31"/>
          <p:cNvSpPr/>
          <p:nvPr/>
        </p:nvSpPr>
        <p:spPr>
          <a:xfrm>
            <a:off x="2943360" y="2347920"/>
            <a:ext cx="6094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5410080" y="106668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nadmissible arc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(i) is scanned at m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c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ween relabe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10080" y="251460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rc (i, j) is scanned at most n/2 times when it is inadmissibl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41"/>
          <p:cNvSpPr/>
          <p:nvPr/>
        </p:nvSpPr>
        <p:spPr>
          <a:xfrm>
            <a:off x="5410080" y="4191120"/>
            <a:ext cx="350532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to scan inadmissible arc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9F65-E76F-4D5E-B164-C0E84CCEE10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nning time analysis, so far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533520" y="1295280"/>
            <a:ext cx="7162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initialization: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41"/>
          <p:cNvSpPr/>
          <p:nvPr/>
        </p:nvSpPr>
        <p:spPr>
          <a:xfrm>
            <a:off x="533520" y="21337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533520" y="30481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relabe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41"/>
          <p:cNvSpPr/>
          <p:nvPr/>
        </p:nvSpPr>
        <p:spPr>
          <a:xfrm>
            <a:off x="533520" y="4038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canning inadmissible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533520" y="5181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non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33520" y="6019920"/>
            <a:ext cx="723888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a different type of running time analysis using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n analogy to gambl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F291-39A8-47C4-9F9E-BA983FCD4C7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the number of losing be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John is a gambler.  On each bet, he can lose up to $L dollars and win up to $W. When John loses, he always loses at least $1.  Suppose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ohn starts with at most $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umber of times that he wins bets is at most 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an upper bound on the number K of times that John loses a be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57200" y="3809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al amount = Initial Amount + Winnings - Loss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7200" y="48769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Losses = Initial Amount +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Winnings - Final Amou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ormula 1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Losses  = Initial Amount + Winnings - Final amount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38680" y="4952880"/>
            <a:ext cx="2743200" cy="429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D + nW - 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304920" y="5761080"/>
            <a:ext cx="82296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se Formula 1 to bound the number of bets at which the gambler lo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D7E6-E6BA-4B51-9B06-C50B36CEC83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tential Functions for Preflow-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(x) be a function that depends on the residual network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(x).  We will call Φ 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potential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Φ(x) = 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 ac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(j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low in the residual network immediately prior to the k-th step of the algorithm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istance labels prior to the k-th st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tha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that gambler John has prior to the k-th bet. Then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in or loss for John at the k-th b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52280" y="5105520"/>
            <a:ext cx="85345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will use Formula 1 to bound nonsaturating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Initial potential + gains in potential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                               - Final potentia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61F9-4846-45A6-9608-B371167C26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9528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06720" y="243360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48816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2"/>
          <p:cNvGrpSpPr/>
          <p:nvPr/>
        </p:nvGrpSpPr>
        <p:grpSpPr>
          <a:xfrm>
            <a:off x="5029200" y="1828800"/>
            <a:ext cx="3657240" cy="794880"/>
            <a:chOff x="5029200" y="1828800"/>
            <a:chExt cx="3657240" cy="794880"/>
          </a:xfrm>
        </p:grpSpPr>
        <p:sp>
          <p:nvSpPr>
            <p:cNvPr id="616" name="Line 7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8"/>
            <p:cNvSpPr/>
            <p:nvPr/>
          </p:nvSpPr>
          <p:spPr>
            <a:xfrm>
              <a:off x="6934320" y="2209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52578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7467480" y="1981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502920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6553080" y="18428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2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23" name="Oval 11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Oval 16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Rectangle 17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8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9" name="Rectangle 19"/>
          <p:cNvSpPr/>
          <p:nvPr/>
        </p:nvSpPr>
        <p:spPr>
          <a:xfrm>
            <a:off x="457200" y="4038480"/>
            <a:ext cx="74674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- (0 or d(v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≤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   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     =  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533520" y="525780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SAT be the number of nonsaturating push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533520" y="601992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617220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E78B-5CB0-40D8-8119-B2F532B9EBC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540360" y="2133720"/>
            <a:ext cx="37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49140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7" name="Group 22"/>
          <p:cNvGrpSpPr/>
          <p:nvPr/>
        </p:nvGrpSpPr>
        <p:grpSpPr>
          <a:xfrm>
            <a:off x="4952880" y="1843200"/>
            <a:ext cx="3733920" cy="780480"/>
            <a:chOff x="4952880" y="1843200"/>
            <a:chExt cx="3733920" cy="780480"/>
          </a:xfrm>
        </p:grpSpPr>
        <p:sp>
          <p:nvSpPr>
            <p:cNvPr id="638" name="Line 9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6934320" y="2210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5257440" y="22100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746748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49528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65530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45" name="Oval 13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16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Oval 18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19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1" name="Rectangle 21"/>
          <p:cNvSpPr/>
          <p:nvPr/>
        </p:nvSpPr>
        <p:spPr>
          <a:xfrm>
            <a:off x="0" y="4038480"/>
            <a:ext cx="830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or 0]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or 0]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≤ 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152280" y="518148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SAT be the number of saturating push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495288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678168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saturating pushes to gains in potential is at most n (SAT) ≤ 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E059-F29F-4EF2-8D88-610BE4A6B1A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ows vs.  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7879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menting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= Flow out of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along a path from s t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= distance from j to t in the residual network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3920" y="914400"/>
            <a:ext cx="398484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low Algorith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≥ Flow out of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i ≠ 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in one arc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≤ distance from j to t in the residual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t)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i) ≤ d(j) + 1 for each ar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(i, j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(x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4D5C-3704-41F5-BB64-AF4A1F9ADFE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616320" y="236232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42768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0" y="4038480"/>
            <a:ext cx="830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=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487692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each node can increase its distance by at most 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42670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n increase of d(v) by 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3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distance label increases to gains in potential is at most n per node and at most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all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" name="Group 16"/>
          <p:cNvGrpSpPr/>
          <p:nvPr/>
        </p:nvGrpSpPr>
        <p:grpSpPr>
          <a:xfrm>
            <a:off x="4952880" y="2438280"/>
            <a:ext cx="3810240" cy="1371600"/>
            <a:chOff x="4952880" y="2438280"/>
            <a:chExt cx="3810240" cy="1371600"/>
          </a:xfrm>
        </p:grpSpPr>
        <p:sp>
          <p:nvSpPr>
            <p:cNvPr id="665" name="Rectangle 17"/>
            <p:cNvSpPr/>
            <p:nvPr/>
          </p:nvSpPr>
          <p:spPr>
            <a:xfrm>
              <a:off x="4952880" y="243828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Rectangle 17"/>
            <p:cNvSpPr/>
            <p:nvPr/>
          </p:nvSpPr>
          <p:spPr>
            <a:xfrm>
              <a:off x="6095880" y="3352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6553080" y="25905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6934320" y="2514240"/>
              <a:ext cx="1219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510516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0" name="Group 22"/>
          <p:cNvGrpSpPr/>
          <p:nvPr/>
        </p:nvGrpSpPr>
        <p:grpSpPr>
          <a:xfrm>
            <a:off x="4952880" y="1066680"/>
            <a:ext cx="3810240" cy="1067040"/>
            <a:chOff x="4952880" y="1066680"/>
            <a:chExt cx="3810240" cy="1067040"/>
          </a:xfrm>
        </p:grpSpPr>
        <p:sp>
          <p:nvSpPr>
            <p:cNvPr id="671" name="Rectangle 23"/>
            <p:cNvSpPr/>
            <p:nvPr/>
          </p:nvSpPr>
          <p:spPr>
            <a:xfrm>
              <a:off x="4952880" y="1066680"/>
              <a:ext cx="3810240" cy="1067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6553080" y="11872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790960" y="16765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6934320" y="1187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5867280" y="1218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D794-6D15-4A62-92AC-19DBAF3075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57200" y="1219320"/>
            <a:ext cx="8001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sses  = Initial Potential + Gains - Final Potent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827280" y="2057400"/>
            <a:ext cx="36540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57200" y="3048120"/>
            <a:ext cx="617220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otential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s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otential ≥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526680" y="5251320"/>
            <a:ext cx="515484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0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E4FC-D1CB-439E-9957-481EB6FF416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earch notes o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shing from the active node with the largest distance label leads to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nonsat push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efficient data structure called dynamic trees reduces the running time to O(nm log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m).  Goldberg-Tarjan (198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“excess scaling technique” of Ahuja and Orlin (1989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d the running time to O(nm +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og U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uja, Orlin, and Tarjan (1989):  further very small improve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ldberg and Rao (1998).  An even more efficient algorithm for max flow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999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DC32-0412-487D-BA29-D721893284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(i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B313-FC6E-4C8B-B118-25257414A4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07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FA4-747B-482C-A5AD-3711B7BBF0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 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38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64D0-01CD-4F42-9223-DE63808E340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162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12BB-818D-4CCD-9CCD-9C6E41AE47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4" name="Group 35"/>
          <p:cNvGrpSpPr/>
          <p:nvPr/>
        </p:nvGrpSpPr>
        <p:grpSpPr>
          <a:xfrm>
            <a:off x="1523880" y="1066680"/>
            <a:ext cx="4211640" cy="2989800"/>
            <a:chOff x="1523880" y="1066680"/>
            <a:chExt cx="4211640" cy="2989800"/>
          </a:xfrm>
        </p:grpSpPr>
        <p:sp>
          <p:nvSpPr>
            <p:cNvPr id="185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 flipH="1">
              <a:off x="2180520" y="181260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438280" y="114264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4448160" y="10666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10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7AB3-02A4-4AC7-83C8-C2714D40B82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/Relabel, the fundamental subrout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selected an active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ush/Relabel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the network contains an admissible arc (i, j) then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ush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: = min{ e(i),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}  units of flow from i  to  j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se replace d(i) by min{d(j) + 1 : (i, j) ∈ A(i) and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0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03:50Z</dcterms:created>
  <dc:creator>Jim Orlin</dc:creator>
  <dc:description/>
  <dc:language>en-US</dc:language>
  <cp:lastModifiedBy>Sapient</cp:lastModifiedBy>
  <cp:lastPrinted>2010-10-18T17:08:30Z</cp:lastPrinted>
  <dcterms:modified xsi:type="dcterms:W3CDTF">2011-02-28T06:13:11Z</dcterms:modified>
  <cp:revision>75</cp:revision>
  <dc:subject/>
  <dc:title>15.082        Spring 1998</dc:title>
</cp:coreProperties>
</file>