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5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6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7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A929-A05B-49E2-A2AE-B55204FCDEA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1F1B-FFC7-402C-8FA2-647BC52ABF2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8D9FA-6E63-47CA-BD17-8BA2B2EE8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1E74D-12A1-4286-9B4F-D1BB95837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21968-6FB2-4B64-B9DA-64B51D3EE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6C8B4-AEF0-49DC-8E80-B00D82358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0813-B7FA-4A98-97BB-394A2A0C5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08E54-C297-41A8-BFF6-51F5CC5C4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9A1CD-6AD6-4A57-83A3-B4AD2F681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F5CC2-3BA2-4438-A897-51118D50B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FE2D7-6443-4BA6-AB4B-746B431A8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F35A8-65C9-4F99-AF1B-0FCF9B16F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7F17-9FD1-487D-894B-9D953F4A9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7244-3612-4536-8BEE-BCE377968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DA49-C0E4-4CA0-B27A-F910D24072D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34"/>
          <p:cNvGrpSpPr/>
          <p:nvPr/>
        </p:nvGrpSpPr>
        <p:grpSpPr>
          <a:xfrm>
            <a:off x="152280" y="4648320"/>
            <a:ext cx="2971800" cy="1993680"/>
            <a:chOff x="152280" y="4648320"/>
            <a:chExt cx="2971800" cy="1993680"/>
          </a:xfrm>
        </p:grpSpPr>
        <p:sp>
          <p:nvSpPr>
            <p:cNvPr id="6" name="Text Box 3"/>
            <p:cNvSpPr/>
            <p:nvPr/>
          </p:nvSpPr>
          <p:spPr>
            <a:xfrm>
              <a:off x="1466640" y="464832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Text Box 4"/>
            <p:cNvSpPr/>
            <p:nvPr/>
          </p:nvSpPr>
          <p:spPr>
            <a:xfrm>
              <a:off x="2571840" y="519264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Text Box 5"/>
            <p:cNvSpPr/>
            <p:nvPr/>
          </p:nvSpPr>
          <p:spPr>
            <a:xfrm>
              <a:off x="1676160" y="515124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Text Box 6"/>
            <p:cNvSpPr/>
            <p:nvPr/>
          </p:nvSpPr>
          <p:spPr>
            <a:xfrm>
              <a:off x="2147760" y="537192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Text Box 7"/>
            <p:cNvSpPr/>
            <p:nvPr/>
          </p:nvSpPr>
          <p:spPr>
            <a:xfrm>
              <a:off x="2139840" y="577044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Text Box 8"/>
            <p:cNvSpPr/>
            <p:nvPr/>
          </p:nvSpPr>
          <p:spPr>
            <a:xfrm>
              <a:off x="1298520" y="586908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Text Box 9"/>
            <p:cNvSpPr/>
            <p:nvPr/>
          </p:nvSpPr>
          <p:spPr>
            <a:xfrm>
              <a:off x="685440" y="542772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Text Box 10"/>
            <p:cNvSpPr/>
            <p:nvPr/>
          </p:nvSpPr>
          <p:spPr>
            <a:xfrm>
              <a:off x="448920" y="504036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Text Box 11"/>
            <p:cNvSpPr/>
            <p:nvPr/>
          </p:nvSpPr>
          <p:spPr>
            <a:xfrm>
              <a:off x="685440" y="577044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Text Box 12"/>
            <p:cNvSpPr/>
            <p:nvPr/>
          </p:nvSpPr>
          <p:spPr>
            <a:xfrm>
              <a:off x="1384200" y="516096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Oval 13"/>
            <p:cNvSpPr/>
            <p:nvPr/>
          </p:nvSpPr>
          <p:spPr>
            <a:xfrm>
              <a:off x="15228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Oval 14"/>
            <p:cNvSpPr/>
            <p:nvPr/>
          </p:nvSpPr>
          <p:spPr>
            <a:xfrm>
              <a:off x="874440" y="490212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Oval 15"/>
            <p:cNvSpPr/>
            <p:nvPr/>
          </p:nvSpPr>
          <p:spPr>
            <a:xfrm>
              <a:off x="159516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Oval 16"/>
            <p:cNvSpPr/>
            <p:nvPr/>
          </p:nvSpPr>
          <p:spPr>
            <a:xfrm>
              <a:off x="2104920" y="490212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Oval 17"/>
            <p:cNvSpPr/>
            <p:nvPr/>
          </p:nvSpPr>
          <p:spPr>
            <a:xfrm>
              <a:off x="1255680" y="6351480"/>
              <a:ext cx="2984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Oval 18"/>
            <p:cNvSpPr/>
            <p:nvPr/>
          </p:nvSpPr>
          <p:spPr>
            <a:xfrm>
              <a:off x="282744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Line 19"/>
            <p:cNvSpPr/>
            <p:nvPr/>
          </p:nvSpPr>
          <p:spPr>
            <a:xfrm>
              <a:off x="448920" y="5854680"/>
              <a:ext cx="849240" cy="538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Line 20"/>
            <p:cNvSpPr/>
            <p:nvPr/>
          </p:nvSpPr>
          <p:spPr>
            <a:xfrm flipV="1">
              <a:off x="321840" y="5068800"/>
              <a:ext cx="552240" cy="620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Line 21"/>
            <p:cNvSpPr/>
            <p:nvPr/>
          </p:nvSpPr>
          <p:spPr>
            <a:xfrm>
              <a:off x="406080" y="5730840"/>
              <a:ext cx="1231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Line 22"/>
            <p:cNvSpPr/>
            <p:nvPr/>
          </p:nvSpPr>
          <p:spPr>
            <a:xfrm flipH="1" flipV="1">
              <a:off x="1171440" y="5109840"/>
              <a:ext cx="550800" cy="579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Line 23"/>
            <p:cNvSpPr/>
            <p:nvPr/>
          </p:nvSpPr>
          <p:spPr>
            <a:xfrm>
              <a:off x="1171440" y="4943520"/>
              <a:ext cx="933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Line 24"/>
            <p:cNvSpPr/>
            <p:nvPr/>
          </p:nvSpPr>
          <p:spPr>
            <a:xfrm flipH="1">
              <a:off x="1764720" y="5110200"/>
              <a:ext cx="339480" cy="579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" name="Line 25"/>
            <p:cNvSpPr/>
            <p:nvPr/>
          </p:nvSpPr>
          <p:spPr>
            <a:xfrm>
              <a:off x="1850760" y="5730840"/>
              <a:ext cx="9763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" name="Line 27"/>
            <p:cNvSpPr/>
            <p:nvPr/>
          </p:nvSpPr>
          <p:spPr>
            <a:xfrm flipV="1">
              <a:off x="1511280" y="5854680"/>
              <a:ext cx="1316160" cy="581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" name="Line 28"/>
            <p:cNvSpPr/>
            <p:nvPr/>
          </p:nvSpPr>
          <p:spPr>
            <a:xfrm>
              <a:off x="2401920" y="5151240"/>
              <a:ext cx="468360" cy="537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" name="Line 48"/>
            <p:cNvSpPr/>
            <p:nvPr/>
          </p:nvSpPr>
          <p:spPr>
            <a:xfrm flipV="1">
              <a:off x="1425600" y="5938560"/>
              <a:ext cx="212400" cy="371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&amp; 6.855J  &amp; ESD.78J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lgorithm Visualization 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Ford-Fulkerson Augmenting Path Algorithm for the Maximum Flow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09DD-A3E2-4F72-9660-F4986E8FF5F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16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9" name="Text Box 1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Text Box 21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Text Box 23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2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34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Line 35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Line 36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Line 38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Line 3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Line 4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43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44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Line 45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Line 47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Line 4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Line 49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Line 5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Line 57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Line 58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F2DE-4688-4BFF-8C63-2621584C383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Text Box 54"/>
          <p:cNvSpPr/>
          <p:nvPr/>
        </p:nvSpPr>
        <p:spPr>
          <a:xfrm>
            <a:off x="6095880" y="3139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Text Box 55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Text Box 56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57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6095880" y="3124080"/>
            <a:ext cx="53676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32" name="Text Box 1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23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45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46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Line 47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Line 4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Line 50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5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59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Line 60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13ED-B8E2-4D64-AB80-955FFBB7AC3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19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23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30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Oval 32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33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34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35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36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37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3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4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43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45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5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55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Line 57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5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Line 5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8333-FF6C-4EF7-8BA0-06E1F20E124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Text Box 24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Text Box 61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Text Box 62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Text Box 63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Text Box 58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Text Box 5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Text Box 6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9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10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1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Text Box 23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Text Box 48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Line 49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Line 5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51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5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53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54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55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64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CF8B-0365-4A68-8DA1-8966FEF9556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Text Box 1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Text Box 1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Text Box 19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8" name="Text Box 22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23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2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Line 48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Line 51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Line 52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Line 53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Line 54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Text Box 55"/>
          <p:cNvSpPr/>
          <p:nvPr/>
        </p:nvSpPr>
        <p:spPr>
          <a:xfrm>
            <a:off x="3733920" y="4800600"/>
            <a:ext cx="3809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s-t path in the residual network.  This flow is optima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Line 5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8276-820C-4096-8895-34182D2FD26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Text Box 6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Text Box 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Text Box 10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Text Box 11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Text Box 1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Text Box 1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Text Box 19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Text Box 20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2" name="Text Box 22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23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2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Text Box 47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Line 48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Line 4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Line 50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Line 51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Line 52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53"/>
          <p:cNvSpPr/>
          <p:nvPr/>
        </p:nvSpPr>
        <p:spPr>
          <a:xfrm>
            <a:off x="3352680" y="4800600"/>
            <a:ext cx="4267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se are the nodes that are reachable from node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Line 54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Oval 5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Oval 5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Oval 5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Oval 5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Oval 5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46B0-4352-4E7B-B78C-4ABD322AE48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92" name="Group 31"/>
          <p:cNvGrpSpPr/>
          <p:nvPr/>
        </p:nvGrpSpPr>
        <p:grpSpPr>
          <a:xfrm>
            <a:off x="2743200" y="990720"/>
            <a:ext cx="5334120" cy="3504960"/>
            <a:chOff x="2743200" y="990720"/>
            <a:chExt cx="5334120" cy="3504960"/>
          </a:xfrm>
        </p:grpSpPr>
        <p:sp>
          <p:nvSpPr>
            <p:cNvPr id="793" name="Text Box 3"/>
            <p:cNvSpPr/>
            <p:nvPr/>
          </p:nvSpPr>
          <p:spPr>
            <a:xfrm>
              <a:off x="5102280" y="9907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94" name="Group 30"/>
            <p:cNvGrpSpPr/>
            <p:nvPr/>
          </p:nvGrpSpPr>
          <p:grpSpPr>
            <a:xfrm>
              <a:off x="2743200" y="1295280"/>
              <a:ext cx="5334120" cy="3200400"/>
              <a:chOff x="2743200" y="1295280"/>
              <a:chExt cx="5334120" cy="3200400"/>
            </a:xfrm>
          </p:grpSpPr>
          <p:sp>
            <p:nvSpPr>
              <p:cNvPr id="795" name="Text Box 4"/>
              <p:cNvSpPr/>
              <p:nvPr/>
            </p:nvSpPr>
            <p:spPr>
              <a:xfrm>
                <a:off x="7086600" y="1828800"/>
                <a:ext cx="53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6" name="Text Box 6"/>
              <p:cNvSpPr/>
              <p:nvPr/>
            </p:nvSpPr>
            <p:spPr>
              <a:xfrm>
                <a:off x="6326280" y="243828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7" name="Text Box 7"/>
              <p:cNvSpPr/>
              <p:nvPr/>
            </p:nvSpPr>
            <p:spPr>
              <a:xfrm>
                <a:off x="6095880" y="3124080"/>
                <a:ext cx="53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8" name="Text Box 9"/>
              <p:cNvSpPr/>
              <p:nvPr/>
            </p:nvSpPr>
            <p:spPr>
              <a:xfrm>
                <a:off x="3657600" y="243828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9" name="Text Box 10"/>
              <p:cNvSpPr/>
              <p:nvPr/>
            </p:nvSpPr>
            <p:spPr>
              <a:xfrm>
                <a:off x="3276720" y="182880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0" name="Text Box 11"/>
              <p:cNvSpPr/>
              <p:nvPr/>
            </p:nvSpPr>
            <p:spPr>
              <a:xfrm>
                <a:off x="3807000" y="310824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1" name="Oval 13"/>
              <p:cNvSpPr/>
              <p:nvPr/>
            </p:nvSpPr>
            <p:spPr>
              <a:xfrm>
                <a:off x="2743200" y="274320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2" name="Oval 14"/>
              <p:cNvSpPr/>
              <p:nvPr/>
            </p:nvSpPr>
            <p:spPr>
              <a:xfrm>
                <a:off x="4038480" y="129528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3" name="Oval 15"/>
              <p:cNvSpPr/>
              <p:nvPr/>
            </p:nvSpPr>
            <p:spPr>
              <a:xfrm>
                <a:off x="5334120" y="274320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4" name="Oval 16"/>
              <p:cNvSpPr/>
              <p:nvPr/>
            </p:nvSpPr>
            <p:spPr>
              <a:xfrm>
                <a:off x="6248520" y="129528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5" name="Oval 17"/>
              <p:cNvSpPr/>
              <p:nvPr/>
            </p:nvSpPr>
            <p:spPr>
              <a:xfrm>
                <a:off x="4724280" y="3962520"/>
                <a:ext cx="533520" cy="533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6" name="Oval 18"/>
              <p:cNvSpPr/>
              <p:nvPr/>
            </p:nvSpPr>
            <p:spPr>
              <a:xfrm>
                <a:off x="7543800" y="274320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7" name="Line 19"/>
              <p:cNvSpPr/>
              <p:nvPr/>
            </p:nvSpPr>
            <p:spPr>
              <a:xfrm>
                <a:off x="3276720" y="3048120"/>
                <a:ext cx="1523880" cy="9903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8" name="Line 20"/>
              <p:cNvSpPr/>
              <p:nvPr/>
            </p:nvSpPr>
            <p:spPr>
              <a:xfrm flipV="1">
                <a:off x="3048120" y="1599840"/>
                <a:ext cx="990360" cy="1143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9" name="Line 21"/>
              <p:cNvSpPr/>
              <p:nvPr/>
            </p:nvSpPr>
            <p:spPr>
              <a:xfrm>
                <a:off x="3200400" y="2819520"/>
                <a:ext cx="2209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0" name="Line 23"/>
              <p:cNvSpPr/>
              <p:nvPr/>
            </p:nvSpPr>
            <p:spPr>
              <a:xfrm>
                <a:off x="4572000" y="1371600"/>
                <a:ext cx="1676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Line 25"/>
              <p:cNvSpPr/>
              <p:nvPr/>
            </p:nvSpPr>
            <p:spPr>
              <a:xfrm>
                <a:off x="5791320" y="2819520"/>
                <a:ext cx="17524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Line 26"/>
              <p:cNvSpPr/>
              <p:nvPr/>
            </p:nvSpPr>
            <p:spPr>
              <a:xfrm flipV="1">
                <a:off x="5181480" y="3047760"/>
                <a:ext cx="2362320" cy="10666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Line 27"/>
              <p:cNvSpPr/>
              <p:nvPr/>
            </p:nvSpPr>
            <p:spPr>
              <a:xfrm>
                <a:off x="6781680" y="1752480"/>
                <a:ext cx="838440" cy="9907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4" name="Text Box 28"/>
          <p:cNvSpPr/>
          <p:nvPr/>
        </p:nvSpPr>
        <p:spPr>
          <a:xfrm>
            <a:off x="4114800" y="4800600"/>
            <a:ext cx="2666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e is the optima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F413-072C-4C40-852F-493AFA8E346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Oval 2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Line 24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Line 26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Line 2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Line 29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3429000" y="4876920"/>
            <a:ext cx="4495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original network, plus reversals of the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Line 42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Line 43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Line 44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Line 45"/>
          <p:cNvSpPr/>
          <p:nvPr/>
        </p:nvSpPr>
        <p:spPr>
          <a:xfrm>
            <a:off x="4495680" y="1828800"/>
            <a:ext cx="838440" cy="9144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46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47"/>
          <p:cNvSpPr/>
          <p:nvPr/>
        </p:nvSpPr>
        <p:spPr>
          <a:xfrm flipV="1">
            <a:off x="5791320" y="1752480"/>
            <a:ext cx="609480" cy="10670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4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50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51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53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8DE7-A054-4E3D-A16D-44F8C80202E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3276720" y="4724280"/>
            <a:ext cx="4495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original network, and the original residual network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0" name="Group 30"/>
          <p:cNvGrpSpPr/>
          <p:nvPr/>
        </p:nvGrpSpPr>
        <p:grpSpPr>
          <a:xfrm>
            <a:off x="2743200" y="990720"/>
            <a:ext cx="5334120" cy="3504960"/>
            <a:chOff x="2743200" y="990720"/>
            <a:chExt cx="5334120" cy="3504960"/>
          </a:xfrm>
        </p:grpSpPr>
        <p:sp>
          <p:nvSpPr>
            <p:cNvPr id="161" name="Text Box 3"/>
            <p:cNvSpPr/>
            <p:nvPr/>
          </p:nvSpPr>
          <p:spPr>
            <a:xfrm>
              <a:off x="5102280" y="9907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 Box 4"/>
            <p:cNvSpPr/>
            <p:nvPr/>
          </p:nvSpPr>
          <p:spPr>
            <a:xfrm>
              <a:off x="7086960" y="182880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5639040" y="175248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6326280" y="24382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6096240" y="31240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800600" y="33526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3657600" y="24382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3276360" y="182880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3806640" y="310824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4952880" y="182880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13"/>
            <p:cNvSpPr/>
            <p:nvPr/>
          </p:nvSpPr>
          <p:spPr>
            <a:xfrm>
              <a:off x="274320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Oval 14"/>
            <p:cNvSpPr/>
            <p:nvPr/>
          </p:nvSpPr>
          <p:spPr>
            <a:xfrm>
              <a:off x="4038480" y="12952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Oval 15"/>
            <p:cNvSpPr/>
            <p:nvPr/>
          </p:nvSpPr>
          <p:spPr>
            <a:xfrm>
              <a:off x="53341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Oval 16"/>
            <p:cNvSpPr/>
            <p:nvPr/>
          </p:nvSpPr>
          <p:spPr>
            <a:xfrm>
              <a:off x="6248520" y="12952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4724280" y="39625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Oval 18"/>
            <p:cNvSpPr/>
            <p:nvPr/>
          </p:nvSpPr>
          <p:spPr>
            <a:xfrm>
              <a:off x="7544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3276360" y="3048120"/>
              <a:ext cx="152388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47760" y="1599840"/>
              <a:ext cx="99036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3200400" y="2819520"/>
              <a:ext cx="22096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H="1" flipV="1">
              <a:off x="4571640" y="1676160"/>
              <a:ext cx="99036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>
              <a:off x="4572000" y="1371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H="1">
              <a:off x="5638680" y="1676520"/>
              <a:ext cx="60948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>
              <a:off x="5791320" y="2819520"/>
              <a:ext cx="1752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V="1">
              <a:off x="5181480" y="3047760"/>
              <a:ext cx="236232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28"/>
            <p:cNvSpPr/>
            <p:nvPr/>
          </p:nvSpPr>
          <p:spPr>
            <a:xfrm>
              <a:off x="6782040" y="1752480"/>
              <a:ext cx="83808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48"/>
            <p:cNvSpPr/>
            <p:nvPr/>
          </p:nvSpPr>
          <p:spPr>
            <a:xfrm flipV="1">
              <a:off x="5029200" y="3200040"/>
              <a:ext cx="38088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D580-97ED-4971-A37D-A209CC1FCE6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2093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2094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2095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2096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97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 Box 209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09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210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210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10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9" name="Text Box 2077"/>
          <p:cNvSpPr/>
          <p:nvPr/>
        </p:nvSpPr>
        <p:spPr>
          <a:xfrm>
            <a:off x="3429000" y="4724280"/>
            <a:ext cx="4495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in G(x)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Oval 210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Oval 210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Oval 210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Oval 210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Oval 210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Oval 210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Line 210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Line 211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Line 211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211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Line 211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Line 211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Line 211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Line 211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Line 211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211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Line 211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212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212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B6CF-AF91-4D3B-BBD5-2FD8B0B0C37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 Box 7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 Box 7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 Box 7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67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68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69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41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4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 Box 43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Text Box 44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45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46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Text Box 47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48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Oval 49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val 50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Oval 51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52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Oval 53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5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55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56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57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5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59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Line 6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6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Line 6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Line 6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Line 6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6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Line 66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Line 7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Line 7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Line 7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Line 7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4BC4-DF68-447E-8295-7D2B0536839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Oval 19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Oval 20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21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22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23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Oval 24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25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26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27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28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29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30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Line 31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32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Line 33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3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3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Line 39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42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Line 43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0EE4-252F-470C-8555-4EE503CFD23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 Box 5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55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5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5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51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Text Box 50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Text Box 44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Text Box 45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Oval 18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Oval 19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Oval 20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Oval 21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Oval 22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Oval 23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2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25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26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27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Line 2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Line 29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3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Line 3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Line 3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3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Line 35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Line 36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Line 37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Line 39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Line 40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41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7DCF-85B5-4447-ABA6-42B9A7C8FF2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Text Box 2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Oval 2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Oval 2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2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2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2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2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2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3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3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3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Line 3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Line 3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Line 3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49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Line 5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51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5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54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5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C14D-13EF-48ED-8208-BD265BE9E61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1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54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Text Box 5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56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57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2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Text Box 2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Text Box 2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Oval 2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Oval 2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Oval 2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Oval 2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Oval 2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Oval 2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2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3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Line 3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3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3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3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3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Line 50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Line 51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Line 58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Line 59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60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23:33:1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0:31Z</dcterms:modified>
  <cp:revision>28</cp:revision>
  <dc:subject/>
  <dc:title>15.082        Spring 1998</dc:title>
</cp:coreProperties>
</file>