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1C5AEC-065D-4BE7-A330-3A30A326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DB93F8-6BC7-496D-A4FB-D383448BA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156069-ED1F-44F9-8DE9-45E2A8F5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563EE3-F469-4305-8720-C4A8F20FE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CC78CB-0562-4BAE-AA3A-1DD54B4E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F917FB-A85A-4347-89B4-BD496DB0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78AF1F-5F61-4361-9159-3F483B6A8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DBB094-EEAE-43B9-A9FB-2244BAA00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A0ED9-0FB1-40CB-A874-F808AD5E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FD43F2-5837-4F05-BD23-2320FD53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00E66-5144-4854-84E7-CA5EE94E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0E161B-1B85-4D16-88E1-8867F27F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81FBBA-E878-4579-B576-C5FE2D41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5B6741-6C10-4CE8-9F5F-BF5C9D91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ABC5D3-AAC4-4D21-BA9B-4B219BD6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0F14F9-559C-48A6-B1E1-2F532EAC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297A01-15DE-4E3D-88B9-3FDA6CF1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EBC0A9-FCCF-49CA-950E-C8A699FE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594-2134-4FA0-A1C5-7BD0D4B3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780-1361-4750-A9A3-096F751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C4B-B15C-44A4-B5DF-F2E933A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7F3-BCCA-45D6-B7F1-479521B0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9F3-616E-47E5-AD7D-10025E4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BAE-EEC6-4687-9968-A55EFB58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C12-D4D4-48A6-A921-3881687E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59C-3FDD-4359-A9A3-525B59C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EB9-7016-4575-9FA2-052A3AE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CAB-6BC5-4156-8F4A-4359A96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135-BDCE-4008-A720-571B5B0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5FD-6DED-4BB7-8B8D-AA12B37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86CC-495A-4FCF-B596-DF79FC19F15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7361-ABC5-4191-9C88-0407C2A2D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6E4-C4CA-453F-88A5-D8892ACE9D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612C1-6D4B-46F3-8058-7B46C95F7B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5E7-1518-494E-ABC2-9F89CEC1F7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CDE67-4295-4789-8375-146E4ABCB9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293-1CF5-4D72-954E-052F60717BD1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778E9-9E3D-469B-AF32-30FAE387BB18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F5D-2A07-47C4-A0E6-B2CB61058406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E8AF-2CA3-4420-8BDB-1C1CBC0DF1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E39-29EA-4E3B-89A3-40D66AC2DE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DE537-701A-4186-84AC-4313732B27D1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BAA-0239-4EFC-B428-0F472CCC78D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C9953-875A-45E2-BD80-C4DFA46405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CE8-2CE6-48D0-9B72-2C4DDA4EF9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CAC0B-8B45-4BB9-89E6-91D068DE828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D2B-24C2-4835-8F5D-ED863B9C443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3A019-D2B1-425A-895E-A651A21EC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C5C-86AB-49BA-A7CC-03F8066804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CDC1-B236-4C9F-A094-4D1496D9286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805-2F17-473A-B57C-D6D06AF94A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7FB4A-722C-4532-B20E-AD406C5860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292-79AC-4CEC-AB09-11239F5551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A31A-FAF2-414D-8B1C-03B9349F666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E3C-756C-4CB7-9361-AB1C4DA21C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370FB-8639-4080-B988-034643BC64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77D-A6CB-4176-B3C4-9ADBFDD252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4CDA7-5194-499D-A902-91F0F8A38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744-C87D-4765-B9A1-4D70906CF2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F9BAD-B9DA-4B87-BD5D-CC064ADF28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BF2-7EA5-4F75-BB32-05A90303B8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1AD0C-7304-4782-9014-392652B9C6C6}" type="datetime5">
              <a:rPr lang="en-US"/>
              <a:t>Jul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DBA-5D05-4EEA-8E60-BF3F496D7D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5098-5D0B-4FD4-90AA-8AA5DB97BD54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C4B-F090-483A-A47F-9D3A9C69D2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B5001-031B-4815-93B9-426CDA4F52DB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EA5-F0B2-4D92-BEB2-2A3D8375CD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E24FF-94DD-4365-B152-B55171FE756C}" type="datetime5">
              <a:rPr lang="en-US"/>
              <a:t>Jul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5E3-ED48-411C-BFB0-E919ADB745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4D2AE-F6E7-4093-9AA3-2D4EE53F0CE2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351-1466-4A41-9F81-0411F10B03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95F3E-CE91-4960-9724-14DE022A1BBC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E9A-0114-4393-8D95-642B96B642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5FF43-D000-48F3-8368-04339A00B87C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75E-08C6-489F-8DF3-AA907295BC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B0A8E-EAF7-41B0-A62E-182E0EEBA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484-E201-4BB1-81A8-DF265ABEA7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8FA71-A72B-414D-A1C3-F65AD28822FC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C61-334B-41DF-AE86-AFD9A27991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E8246-3F0D-4864-A751-4DFC74ABE9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CE2-7367-45B0-B379-D0ED2DA7127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7052C-8FC5-41F6-BCCC-59DAE77ADD5D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827-D16F-4644-AE2C-3008D1610B7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22721-BCF5-4CD7-8F95-BF18BE0A01BA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B7B-DE60-4C48-978F-E31C0CB3B8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C9DB1-AD87-4718-9696-8A58993D2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E43-E39B-4FCC-A868-F0549231BA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EA0A6-FBEB-4561-95DC-B8B96C65E362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DC2-C732-402B-B44E-D5BD6DEA70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8E5D-364A-4699-A62E-087DC30AD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1F2-A4A9-411D-A010-BFFCAE4AA4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1AB8D-64D8-4C40-BA11-EB4E0A83B9C4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FD2-60B9-4B66-ACD3-64551183B5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2D961-1034-4CA8-8D9E-64FC5D8F7ABB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53A-E7B5-4529-BC49-A6722D26863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4D98-63E4-4B13-BDF1-9895EA9FE57A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EF6-ACF1-4C93-A05D-8213E29186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639C2-31C4-49AD-8700-B8C28C180C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D0F-A31C-4873-9270-386F4B403A4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C0FEB-16B4-447E-9AF9-F5D2DE6DCBE2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DA4-02A2-49BE-85A2-7974CBDAF25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D4175-341C-4325-9FDC-A094163B11CF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073-D799-482B-B64A-525BAFCECD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6AB39-6FDB-4DC1-A44D-ECCD14D3C4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7CF-0664-4C16-894A-831928F688E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7F45D-FEBF-4251-A23F-5921950A5268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8D3-5E7D-4B5E-8E2D-5F9C6C106AC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2C208-44D2-4CBB-B12A-04A8BE6450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6E7-054A-4006-A2AA-1C32828155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57E20-5127-43F6-A360-81519A67F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FDD-E0F2-4933-84F4-EDE4018928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36348-39F2-4999-937E-FCE406F3D9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C12-FCE5-436A-873A-685696BB40E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7E9B9-9D60-4FC9-A3EB-8A0AF0D59C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043-0618-450D-AB2D-942F018304E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DEF34-0B7A-4454-B473-7ECF232F6347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A7C-8EBA-4629-BB26-8D88FF852C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AAA7-03CF-46F2-A7ED-05563D42CE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E04-F257-4ACA-99C0-AB7C3D10A2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919D9-EB9C-43F0-9C17-1594133EE1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E54-2570-4E0C-B4CA-5717D8229C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80A2-F102-4D06-B8DD-6B4E17FCA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BA2-2094-4981-9C71-F6AFE89243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C73A-FB67-45CD-9D18-0F0ED6899BFB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F85-BC46-4F1F-B83C-DEC5A85B16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0CF13-F709-4999-9452-8872A742FE73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05F-4D40-4983-AE7C-4B04483B228E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91358-C4A4-4989-9A6F-8632C4F9D607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89A-2A6F-4D60-AD33-A4FF9E933F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82B68-7873-4C85-B02B-31C2CABA9D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CCF-FD37-4603-8A3B-953D93D238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B6DCD-69A2-445D-B869-99A1DDFE3F97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456-F81D-41E6-80C6-C48CF6F8156F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C7B91-19A5-4038-B6E9-27B877221F79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55D-D6AC-44DB-BB98-9CEE9C3A2B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2B091-779E-4987-BB5B-8749A2BFFD48}" type="datetime1">
              <a:rPr lang="en-US"/>
              <a:t>07/29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0AD-8C85-4AE8-90D5-7D07EDCD27C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85234-7EA6-4D09-BC68-7A530AFE534A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893-54DC-4A29-851D-A13E36D4D4D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0091E-1A79-47E8-AB1C-917B6327358E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F49-7FD1-496B-8F38-D66B1506CF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B0000-AC98-4C8C-BE0C-202EA5E26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184-267E-4AC5-8CE4-7EF5EFE16F2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E5445-7B04-47DF-AF04-4132C391C6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FC5-2849-4CA5-92C2-D61F286543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C1E34-EEEA-48E8-8680-6F1781950B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1E8-CFBC-4816-A982-F09F2961F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91DE5-5833-455A-BB37-68C96AB53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AFA-53B3-4EF1-A566-9FA6EB75CA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964F1-B103-416A-9954-2B313A941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39F-DC21-4188-8814-92E1B92085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C785A-0042-4CF3-9E59-1D942C0A5D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