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9EFEFD-B44E-473F-BE34-4A157389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17DFF5-498E-4E15-8328-B6F4D33E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565817-1C2E-4D2A-9914-EBD1CCE3F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844B23-8D11-498C-928A-011CFD3EF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3C0571-133A-4279-8068-9BD6FFEA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639-3C8B-4EDD-B7A7-EAE5D178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C11-DF27-45E1-BEB7-CA767959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642-51BB-4F08-82FF-849CC9FF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DFB-74CB-46B0-A6C0-1EFA1F1B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94E-B06C-49A4-ACB2-1688D91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3E6-4283-4C20-971C-7BA95CA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59F-FC59-44B1-8B0C-3384BB9E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AC1-6D7B-4194-974D-1F18412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21F-BE2C-485D-9D01-E027D976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E3B-BC14-49FC-9218-F0A79031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3D7-DB53-41D5-83ED-B6FACBE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0FB-6145-45CD-A0AC-EAF8050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B919-EDBF-4C96-A2B0-95779FF93D1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72E-44C0-40E9-AFE1-440E2101FE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E8E-9610-434E-8C18-C3EDD54E24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6DA51-D3B8-45C7-AC8D-A8616950DB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279-2F05-432C-842B-4B90FCBE11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6A8A0-3AB7-4977-9FB1-A2F07B4909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2BE-FDCF-457D-BCF1-EA62EF5544F1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82157-5660-458A-806B-C3E96565D4EF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642-33C9-478F-8D6D-E352F49BA4D2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D8ABE-6F7C-4E2F-8F53-59830DBF8E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E30-6D39-4BE2-B5E6-3A4CD6088F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29F5-D0CE-40B7-A4DC-9A9E775C83C3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482-E07D-42ED-9822-3ADFC9FCE77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3BFA4-E849-4AA4-8BA8-37D680214D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6B5-084A-477C-BB9E-022D45B7F8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490ED-8969-4EB5-91EC-1D8350CAFB68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8BD-B631-4521-A302-D21049686CF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4C0EC-FF05-4A65-A017-FDB6AEE8F2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441-64BD-4896-B6B4-F82C36EF7C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A3C13-6CB0-40E7-A6FB-EDDF8B40D99A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271-48FB-4698-85DD-BBD3499A3D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F927F-19A4-4F23-BB21-054662952F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BDA-E05D-42FD-B441-A2D273AF26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6A700-BAD0-44C5-BB6D-2CF8E225AE64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85F-B693-486A-94C9-641FED21C7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70435-C02A-4D3F-B6D8-1BE83205FB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256-56F4-4C10-9EBC-23C71BD413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0AFBC-9AD6-4149-A2A5-853488235B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745-E4DD-447C-B471-AA76EABD28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4A63C-DCDD-4369-B4D6-F6A4FCC75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97E-887A-4582-89F8-6358EE2D09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D0368-590B-4149-A04B-13467863D5A6}" type="datetime5">
              <a:rPr lang="en-US"/>
              <a:t>Jul 29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D8B-FB52-429C-9FAF-29D2D776BC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1288C-F409-449D-B167-E5C456A0AFE3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8F4-5201-483F-BA7F-0A31F22CB5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4D71C-7735-4E09-BC1D-056D413580F3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F86-36BB-4349-A664-88FA957DF4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4935A-E827-45AF-B9D0-7EFE978FE93E}" type="datetime5">
              <a:rPr lang="en-US"/>
              <a:t>Jul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FFA-B9EC-4CFF-8ECE-474CD50109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1EEE2-066B-461C-8E27-AA58219A22BD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DFF-75A8-4F0E-A76B-DCB0070880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E0108-4A94-445E-9A48-0B8842B0C8C6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AB2-B1D8-41BE-9209-5F10CED0B84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C294D-B229-4FA0-B390-CC50B878E525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B44-7109-4053-B854-07AAC08DDB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B21AE-750D-434F-9FA6-A57CB92587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1AB-751F-4F88-8757-BAB55D2EFA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6AFEA-DB1B-4673-AF3D-7C88C7A3CBF3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12571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3C4-AA47-484B-969A-9A3E5EB11D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EE943-4DD6-4A3D-AA00-297916F5F3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3D8-F793-45F3-88DA-C4F7AE89545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DDDD2-E1D5-472E-97C9-66B8272B8D19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046-F62A-4331-A5EE-16F31EF6F86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D9979-41D2-4D51-B2D8-B34A0C8156DF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F08-6D46-40BD-8CD3-75C1B7877E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2E5D5-6EBD-4826-A1E7-34320D6063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99B-AAD0-434A-B37D-4E2A7D1BF6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04E80-9EF5-4CEA-93A0-BD5CD3375EC2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1D2-B3EB-4D52-A71B-910786AFD5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9E37D-BF44-4E60-AE08-757F6FAA76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5A9-1EC4-43F0-BBC6-94C33D4586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F2FCD-920E-490D-AD38-2B621503A0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E70-A492-49F6-A60E-099AF74DC8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FA0CA-552B-4010-8E14-9853A32DDA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A0F-D9C5-4382-B9A8-18F139D2A4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85850-6191-4BB4-97AE-698F874803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1D1-D9FF-465E-88B6-2FA0506485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7FD69-36A6-4F20-A122-ACFF8EAACD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2FD-7436-4EDB-B275-E998509D5F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1B065-C9C4-4E75-ACC0-D1ADCDB246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6C0-5CE7-4583-9120-C7CCC838EB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FCF95-5BDC-42F6-A91C-1E6E835873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315-3681-44E0-AFA6-57A304910D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F8C72-2B05-4F2C-BC24-177A8AD2AD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3DD-EDC6-43EB-A1A8-6CC099A65C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96D68-05A0-450F-9348-569974899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4:38Z</dcterms:modified>
  <cp:revision>370</cp:revision>
  <dc:subject/>
  <dc:title>Thesis Proposal Meeting</dc:title>
</cp:coreProperties>
</file>