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ED78-706F-4031-97EF-9867062C1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D460-3AD6-495C-BF1A-975B92113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3BB3-342C-4416-B6B7-B290BD8B0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6CD4-E77B-4BE4-B6E5-202C53B51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35FB-E327-40A5-BF28-AF3B4E9D3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C306-4D65-4810-9FEE-12CE7E585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C0C2-7BE6-4660-A250-391952C2A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74FA-323B-4638-A1DC-6CA822AC8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DAF9-321C-433A-8C0C-C6B03CDCA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4674-299B-4FA4-B07E-8A41EF210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6E0C-8890-4765-BFAC-8C36DF9C1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0B84-E934-4512-8739-5F9C63C27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36080" cy="46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0" y="6267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ED0C-2003-441E-9D58-6FC483C14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w Approaches to Add Robustness into Airline Schedul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han Lan, Cindy Barnhart and John-Paul Clarke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nter for Transportation and Logist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y 5 , 200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34000" y="228600"/>
            <a:ext cx="62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rtesy of Shan Lan, Cindy Barnhart and John-Paul Clarke. Used with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of Building Robust Pla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ck of a systematic way to define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craft, crew and passenger flows interact in the hub-and-spok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uge problem size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tractability issu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robustness and cost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CCDD-C3C7-4BD8-9E21-44ABC46E93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of Robustn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co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aircraft/passenger/crew delays and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asy to recover (aircraft, crew, passenger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olate disruptions and reduce the downstream impac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C598-22FB-4C40-979A-B3E0B6BCA3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bust Airline Schedule Plann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362320" y="3124080"/>
          <a:ext cx="6553080" cy="2590920"/>
        </p:xfrm>
        <a:graphic>
          <a:graphicData uri="http://schemas.openxmlformats.org/drawingml/2006/table">
            <a:tbl>
              <a:tblPr/>
              <a:tblGrid>
                <a:gridCol w="1398600"/>
                <a:gridCol w="1400040"/>
                <a:gridCol w="1324080"/>
                <a:gridCol w="1135080"/>
                <a:gridCol w="129528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osenberg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geeva &amp; Clarke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en &amp; Birg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chaef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ebalov &amp; Klab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900520" y="21337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2240" y="2133720"/>
            <a:ext cx="13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as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61280" y="21337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 delay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13372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ol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1981080"/>
            <a:ext cx="1400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0960" y="1981080"/>
            <a:ext cx="13161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198108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981080"/>
            <a:ext cx="1398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840" y="3124080"/>
            <a:ext cx="2160360" cy="2590920"/>
            <a:chOff x="213840" y="3124080"/>
            <a:chExt cx="2160360" cy="2590920"/>
          </a:xfrm>
        </p:grpSpPr>
        <p:sp>
          <p:nvSpPr>
            <p:cNvPr id="122" name=""/>
            <p:cNvSpPr/>
            <p:nvPr/>
          </p:nvSpPr>
          <p:spPr>
            <a:xfrm>
              <a:off x="356400" y="32004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Schedule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5320" y="38862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Fleet Ass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840" y="4572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Maintenanc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6400" y="52578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Crew Schedu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3280" y="31240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3280" y="38098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3280" y="44956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3280" y="51814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B9F8-02AA-42F0-94FE-189AA5CB4C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Should We Start?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cost that airlines are willing to pay for robustness versus cost of op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oking for robust solution without significant added co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maintenance routing problem: The financial impact is relatively small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t is more a feasibility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to route aircraft has impacts on flight delays and cancellations, passengers, crew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hat robustness can be achieved for the maintenance routing problem?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7B27-2A7F-4C00-A095-D2D0E313D1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138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tring based for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A1FD-5462-4680-8C5A-90FF55E8109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lay Propag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rival delay may cause departure delay for the next flight that is using the same aircraft if there is not enough slack between these two fligh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 propagation may cause schedule, passenger and crew disruptions for downstream flights (especially at hub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52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9528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5880" y="5486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105520"/>
            <a:ext cx="6934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10552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419112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667400"/>
            <a:ext cx="2533680" cy="86328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7840" y="54864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33720" y="4191120"/>
            <a:ext cx="2895480" cy="914400"/>
            <a:chOff x="2133720" y="4191120"/>
            <a:chExt cx="2895480" cy="914400"/>
          </a:xfrm>
        </p:grpSpPr>
        <p:sp>
          <p:nvSpPr>
            <p:cNvPr id="145" name=""/>
            <p:cNvSpPr/>
            <p:nvPr/>
          </p:nvSpPr>
          <p:spPr>
            <a:xfrm>
              <a:off x="2133720" y="4191120"/>
              <a:ext cx="289548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4120" y="426744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181480" y="51055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54864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0199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5943600"/>
            <a:ext cx="304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49960" y="5105520"/>
            <a:ext cx="759960" cy="914400"/>
            <a:chOff x="6249960" y="5105520"/>
            <a:chExt cx="759960" cy="914400"/>
          </a:xfrm>
        </p:grpSpPr>
        <p:sp>
          <p:nvSpPr>
            <p:cNvPr id="152" name=""/>
            <p:cNvSpPr/>
            <p:nvPr/>
          </p:nvSpPr>
          <p:spPr>
            <a:xfrm>
              <a:off x="6476760" y="5105520"/>
              <a:ext cx="53316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9960" y="548676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2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066680" y="41911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CDB4-AD10-4CE7-9264-2B38DF0C08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pagated Delay vs. Independent Dela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13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may be divided into two categori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inbound aircraft delay –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-30% of total delay (Continental Airline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dependent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other factors – not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27CE-CE95-46D0-8452-D959D4C465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828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3240" y="2295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6440" y="3438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7240" y="304812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1240" y="30481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1148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971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9718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971800"/>
            <a:ext cx="152388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52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100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472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4876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5799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4520" y="4579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5400" y="48769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828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6840" y="3362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828800"/>
            <a:ext cx="99072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1828800"/>
            <a:ext cx="160020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76440" y="2362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1880" y="2219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2400" y="2362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8200" y="23623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31360" y="20574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143000" y="4495680"/>
                <a:ext cx="27432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T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0680" y="33782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1C65-F1E9-41A3-9356-AE793F0E39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s propagate along aircraft rou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ly limited slack can be ad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uting aircraft intelligently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tter allocated slack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ssentially add slack where advantageous, reducing slack where less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05B9-9E8E-4450-BF11-D65D9E91F2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884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28600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2200" y="2819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438280"/>
            <a:ext cx="6934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4382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5238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1523880"/>
            <a:ext cx="60948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2000160"/>
            <a:ext cx="2533680" cy="86364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1981080"/>
            <a:ext cx="3086280" cy="841320"/>
          </a:xfrm>
          <a:custGeom>
            <a:avLst/>
            <a:gdLst/>
            <a:ahLst/>
            <a:rect l="l" t="t" r="r" b="b"/>
            <a:pathLst>
              <a:path w="1944" h="530">
                <a:moveTo>
                  <a:pt x="0" y="294"/>
                </a:moveTo>
                <a:cubicBezTo>
                  <a:pt x="80" y="326"/>
                  <a:pt x="250" y="530"/>
                  <a:pt x="480" y="486"/>
                </a:cubicBezTo>
                <a:cubicBezTo>
                  <a:pt x="710" y="442"/>
                  <a:pt x="1136" y="60"/>
                  <a:pt x="1380" y="30"/>
                </a:cubicBezTo>
                <a:cubicBezTo>
                  <a:pt x="1624" y="0"/>
                  <a:pt x="1827" y="249"/>
                  <a:pt x="1944" y="30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5080" y="1889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416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09680" y="1523880"/>
            <a:ext cx="2895840" cy="914400"/>
            <a:chOff x="2209680" y="1523880"/>
            <a:chExt cx="2895840" cy="914400"/>
          </a:xfrm>
        </p:grpSpPr>
        <p:sp>
          <p:nvSpPr>
            <p:cNvPr id="213" name=""/>
            <p:cNvSpPr/>
            <p:nvPr/>
          </p:nvSpPr>
          <p:spPr>
            <a:xfrm>
              <a:off x="2209680" y="15238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0800" y="1600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08804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8195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057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981080"/>
            <a:ext cx="16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41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6080" y="1676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429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33526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43828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3276720"/>
            <a:ext cx="3045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326280" y="2438280"/>
            <a:ext cx="760320" cy="914400"/>
            <a:chOff x="6326280" y="2438280"/>
            <a:chExt cx="760320" cy="914400"/>
          </a:xfrm>
        </p:grpSpPr>
        <p:sp>
          <p:nvSpPr>
            <p:cNvPr id="227" name=""/>
            <p:cNvSpPr/>
            <p:nvPr/>
          </p:nvSpPr>
          <p:spPr>
            <a:xfrm>
              <a:off x="6553080" y="2438280"/>
              <a:ext cx="53352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6280" y="281952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3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43000" y="15238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43000" y="4029120"/>
            <a:ext cx="6972480" cy="2349360"/>
            <a:chOff x="1143000" y="4029120"/>
            <a:chExt cx="6972480" cy="2349360"/>
          </a:xfrm>
        </p:grpSpPr>
        <p:sp>
          <p:nvSpPr>
            <p:cNvPr id="231" name=""/>
            <p:cNvSpPr/>
            <p:nvPr/>
          </p:nvSpPr>
          <p:spPr>
            <a:xfrm>
              <a:off x="3620520" y="60102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8840" y="42670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800600"/>
              <a:ext cx="1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2200" y="533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143000" y="4943520"/>
              <a:ext cx="69724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49528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9680" y="40384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4038480"/>
              <a:ext cx="6094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3200" y="4624560"/>
              <a:ext cx="3959280" cy="688680"/>
            </a:xfrm>
            <a:custGeom>
              <a:avLst/>
              <a:gdLst/>
              <a:ahLst/>
              <a:rect l="l" t="t" r="r" b="b"/>
              <a:pathLst>
                <a:path w="2494" h="434">
                  <a:moveTo>
                    <a:pt x="0" y="207"/>
                  </a:moveTo>
                  <a:cubicBezTo>
                    <a:pt x="130" y="240"/>
                    <a:pt x="468" y="434"/>
                    <a:pt x="780" y="405"/>
                  </a:cubicBezTo>
                  <a:cubicBezTo>
                    <a:pt x="1092" y="376"/>
                    <a:pt x="1586" y="66"/>
                    <a:pt x="1872" y="33"/>
                  </a:cubicBezTo>
                  <a:cubicBezTo>
                    <a:pt x="2158" y="0"/>
                    <a:pt x="2365" y="169"/>
                    <a:pt x="2494" y="205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40384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9440" y="4749840"/>
              <a:ext cx="1619280" cy="376200"/>
            </a:xfrm>
            <a:custGeom>
              <a:avLst/>
              <a:gdLst/>
              <a:ahLst/>
              <a:rect l="l" t="t" r="r" b="b"/>
              <a:pathLst>
                <a:path w="1020" h="237">
                  <a:moveTo>
                    <a:pt x="0" y="128"/>
                  </a:moveTo>
                  <a:cubicBezTo>
                    <a:pt x="50" y="143"/>
                    <a:pt x="170" y="237"/>
                    <a:pt x="300" y="218"/>
                  </a:cubicBezTo>
                  <a:cubicBezTo>
                    <a:pt x="430" y="199"/>
                    <a:pt x="660" y="28"/>
                    <a:pt x="780" y="14"/>
                  </a:cubicBezTo>
                  <a:cubicBezTo>
                    <a:pt x="900" y="0"/>
                    <a:pt x="970" y="109"/>
                    <a:pt x="1020" y="134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560" y="44956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0800" y="41148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8804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4952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733920" y="5324040"/>
              <a:ext cx="163836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7057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257800" y="4486320"/>
              <a:ext cx="15620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3341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6080" y="4191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143000" y="58579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4952880"/>
              <a:ext cx="53316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143000" y="40291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238C-E5D3-4E0C-A06C-03F86D52F4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3365-1D64-4FC2-92D0-1D024A623BF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ssu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use leg-based models to track th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e variable (string) for each aircraft route between two maintenances (Barnhart, et al. 1998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tring: a sequence of connected flights that begins and ends at maintenance sta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for each route can be determ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ed to determine delays for each feasible rou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st of the feasible routes haven’t been realized y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are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for these routes can’t be found in the historical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 is not a function of routing and can be calculated by tracking the route of each individual aircraft in the historical data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BA86-96EE-430E-A794-65B1576527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enerating Flight Delay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r Any Feasible Rou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1: Determine propagated delays from historical data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 max (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2: Determine Independent Arrival Delays (IAD) from historical data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 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3: Determine TAD and PD for feasible rout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the first flight on each string, New_TAD = IA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max (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+ 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8DB9-FA2B-4612-B699-7EFD005043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ing 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514600" y="1447920"/>
                <a:ext cx="415908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s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0CF6-499B-4437-9B91-9EA25A3F39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90720" y="2057400"/>
                <a:ext cx="6553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E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bjective Function Coeffici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13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(PD)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ribution of Total Arrival Dela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ssible distributions analyzed: Normal, Exponential, Gamma, Weibull, Lognormal, etc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atistical analysis shows that lognormal distribution is the best f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closed form of expected value function can be obtai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19320" y="5560920"/>
                <a:ext cx="3504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Φ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B13D-6C91-4AA5-836A-B46A319C5B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s formulation is a deterministic mixed-integer program with a huge number of 0-1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anch-and-Bound with a linear programming relaxation solved at each node of the branch-and-bound tree using column gener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P solu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pecial branching strategy: branching on follow-ons (Ryan and Foster 1981, Barnhart et al. 1998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2F14-9582-40EB-B800-D72FB990F6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Network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se new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9" name="network%20size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3352680" cy="17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332A-69EB-440A-B9D8-F5B1CB61CC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2" name="PD%20July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5029200" cy="1900080"/>
          </a:xfrm>
          <a:prstGeom prst="rect">
            <a:avLst/>
          </a:prstGeom>
          <a:ln w="0">
            <a:noFill/>
          </a:ln>
        </p:spPr>
      </p:pic>
      <p:pic>
        <p:nvPicPr>
          <p:cNvPr id="273" name="PD%20August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495288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4528-7D6E-4309-833B-111AAC5E7C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 Distrib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tal delays for existing and new routing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6" name="TD%20distribution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15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24FE-C6DC-4C7A-BC89-0536E2D3AE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ll passengers connecting from A to B are disrupt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9" name="PD%20Passengers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172200" cy="23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0354-3A9E-47BB-BA4F-C991DA6CC9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assenger delays and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ormulations and their proper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A828-03F2-4B88-A607-6ADFCD7124A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819520" y="1371600"/>
            <a:ext cx="3580920" cy="3263760"/>
            <a:chOff x="2819520" y="1371600"/>
            <a:chExt cx="3580920" cy="3263760"/>
          </a:xfrm>
        </p:grpSpPr>
        <p:sp>
          <p:nvSpPr>
            <p:cNvPr id="86" name=""/>
            <p:cNvSpPr/>
            <p:nvPr/>
          </p:nvSpPr>
          <p:spPr>
            <a:xfrm>
              <a:off x="2819520" y="137160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hedule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417564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w Schedu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9520" y="230292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eet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324396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intenance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08360" y="181044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08360" y="2742120"/>
              <a:ext cx="144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08360" y="367380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Schedule Planning Proc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st existing planning models assume that aircraft, crew, and passengers will operate as plan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3B11-9A95-4F08-819B-1ECCD8549A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 caused by disruptions is the most critical part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good proxy for passenger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84" name="delay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867280" cy="19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D797-70A9-4225-9A3D-35F17546AD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Related to Passenger Disruption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219320" y="1905120"/>
            <a:ext cx="6858000" cy="3968640"/>
            <a:chOff x="1219320" y="1905120"/>
            <a:chExt cx="6858000" cy="3968640"/>
          </a:xfrm>
        </p:grpSpPr>
        <p:grpSp>
          <p:nvGrpSpPr>
            <p:cNvPr id="287" name=""/>
            <p:cNvGrpSpPr/>
            <p:nvPr/>
          </p:nvGrpSpPr>
          <p:grpSpPr>
            <a:xfrm>
              <a:off x="1219320" y="2543760"/>
              <a:ext cx="6858000" cy="2643480"/>
              <a:chOff x="1219320" y="2543760"/>
              <a:chExt cx="6858000" cy="2643480"/>
            </a:xfrm>
          </p:grpSpPr>
          <p:sp>
            <p:nvSpPr>
              <p:cNvPr id="288" name=""/>
              <p:cNvSpPr/>
              <p:nvPr/>
            </p:nvSpPr>
            <p:spPr>
              <a:xfrm>
                <a:off x="1219320" y="390312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24240" y="2543760"/>
                <a:ext cx="106668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15360" y="3903120"/>
                <a:ext cx="121896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86560" y="3978720"/>
                <a:ext cx="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1440" y="2543760"/>
                <a:ext cx="297180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4320" y="39772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a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50120" y="395316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19320" y="254376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19320" y="518724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1536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38640" y="435600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12040" y="44316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22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608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1640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72560" y="3903120"/>
                <a:ext cx="160020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980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7692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56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4640" y="329904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83640" y="29214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781720" y="190512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73880" y="541404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371600" y="160020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T – MCT &lt; 0, passengers are disru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CE8C-84B3-418D-8788-FBFEB1A82C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ize Passenger Missed Conn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92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the slack is “eaten” by flight delay, passengers are disrup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ding more slack can be good for connecting passengers, but can result in reduced productivit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passenger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ving flight departure times in a small time window can lead to better allocated slack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A7E9-215B-4E3F-B14D-6374E3A7A1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505320"/>
            <a:ext cx="4724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2670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6668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5029200"/>
            <a:ext cx="4724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2666880"/>
            <a:ext cx="60948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505320"/>
            <a:ext cx="6858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42670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3040" y="243828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3400" y="327672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53920" y="403056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3040" y="480060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666880" y="3657600"/>
                <a:ext cx="25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886200" y="4343400"/>
                <a:ext cx="233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43000" y="2895480"/>
                <a:ext cx="2160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581280" y="3505320"/>
            <a:ext cx="68580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4267080"/>
            <a:ext cx="685800" cy="762120"/>
          </a:xfrm>
          <a:prstGeom prst="line">
            <a:avLst/>
          </a:prstGeom>
          <a:ln w="2556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440" y="1673280"/>
            <a:ext cx="78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00 passengers in fligh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connect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3505320"/>
            <a:ext cx="66852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00200" y="3505320"/>
            <a:ext cx="762120" cy="761760"/>
            <a:chOff x="1600200" y="3505320"/>
            <a:chExt cx="762120" cy="761760"/>
          </a:xfrm>
        </p:grpSpPr>
        <p:sp>
          <p:nvSpPr>
            <p:cNvPr id="335" name=""/>
            <p:cNvSpPr/>
            <p:nvPr/>
          </p:nvSpPr>
          <p:spPr>
            <a:xfrm>
              <a:off x="1676520" y="3505320"/>
              <a:ext cx="685800" cy="761760"/>
            </a:xfrm>
            <a:prstGeom prst="line">
              <a:avLst/>
            </a:prstGeom>
            <a:ln w="2556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00200" y="3733920"/>
                  <a:ext cx="3268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7" name=""/>
          <p:cNvSpPr/>
          <p:nvPr/>
        </p:nvSpPr>
        <p:spPr>
          <a:xfrm>
            <a:off x="68580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587760" y="2743200"/>
            <a:ext cx="5334120" cy="1424160"/>
            <a:chOff x="3587760" y="2743200"/>
            <a:chExt cx="5334120" cy="1424160"/>
          </a:xfrm>
        </p:grpSpPr>
        <p:sp>
          <p:nvSpPr>
            <p:cNvPr id="339" name=""/>
            <p:cNvSpPr/>
            <p:nvPr/>
          </p:nvSpPr>
          <p:spPr>
            <a:xfrm>
              <a:off x="6705720" y="2895480"/>
              <a:ext cx="221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 (misconnect)= 0.3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 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587760" y="2743200"/>
              <a:ext cx="5251320" cy="1424160"/>
              <a:chOff x="3587760" y="2743200"/>
              <a:chExt cx="5251320" cy="1424160"/>
            </a:xfrm>
          </p:grpSpPr>
          <p:sp>
            <p:nvSpPr>
              <p:cNvPr id="341" name=""/>
              <p:cNvSpPr/>
              <p:nvPr/>
            </p:nvSpPr>
            <p:spPr>
              <a:xfrm>
                <a:off x="3587760" y="3276720"/>
                <a:ext cx="3146400" cy="890640"/>
              </a:xfrm>
              <a:custGeom>
                <a:avLst/>
                <a:gdLst/>
                <a:ahLst/>
                <a:rect l="l" t="t" r="r" b="b"/>
                <a:pathLst>
                  <a:path w="1982" h="561">
                    <a:moveTo>
                      <a:pt x="0" y="561"/>
                    </a:moveTo>
                    <a:cubicBezTo>
                      <a:pt x="64" y="489"/>
                      <a:pt x="66" y="222"/>
                      <a:pt x="396" y="128"/>
                    </a:cubicBezTo>
                    <a:cubicBezTo>
                      <a:pt x="726" y="34"/>
                      <a:pt x="1652" y="27"/>
                      <a:pt x="198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34160" y="2743200"/>
                <a:ext cx="210492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4343400" y="3657600"/>
            <a:ext cx="4568760" cy="838080"/>
            <a:chOff x="4343400" y="3657600"/>
            <a:chExt cx="4568760" cy="838080"/>
          </a:xfrm>
        </p:grpSpPr>
        <p:sp>
          <p:nvSpPr>
            <p:cNvPr id="344" name=""/>
            <p:cNvSpPr/>
            <p:nvPr/>
          </p:nvSpPr>
          <p:spPr>
            <a:xfrm>
              <a:off x="6781320" y="3733920"/>
              <a:ext cx="21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(misconnect)=0.2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1680" y="3657600"/>
              <a:ext cx="21304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4094280"/>
              <a:ext cx="2395440" cy="133200"/>
            </a:xfrm>
            <a:custGeom>
              <a:avLst/>
              <a:gdLst/>
              <a:ahLst/>
              <a:rect l="l" t="t" r="r" b="b"/>
              <a:pathLst>
                <a:path w="1592" h="84">
                  <a:moveTo>
                    <a:pt x="0" y="84"/>
                  </a:moveTo>
                  <a:cubicBezTo>
                    <a:pt x="49" y="74"/>
                    <a:pt x="31" y="24"/>
                    <a:pt x="296" y="12"/>
                  </a:cubicBezTo>
                  <a:cubicBezTo>
                    <a:pt x="561" y="0"/>
                    <a:pt x="1376" y="12"/>
                    <a:pt x="159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33160" y="525780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disrupted passengers reduced: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414C-A6A0-4BC2-BEDD-75F81F47E0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to Appl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66880" y="15235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ther a passenger will be disrupted depends on flight delays, a function of fleeting and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fore solving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mpact of the propagation of flight delays won’t be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 fleeting and routing solution may cause delay propagate in a different way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may eventually change th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fter solving fleeting and routing proble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has been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maintain the current fleeting and routing solu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1880" y="15541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880" y="57024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9718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3369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444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11200" y="380376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13000" y="5168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076C-7A1A-4861-A8F2-C61A8F1BB1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the expected total number of passengers missing connec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flight, exactly one copy will be select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connection, exactly one copy will be selected and this selected copy must connect the selected flight-leg copi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current fleeting and routing solution cannot be alter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880" y="3917880"/>
            <a:ext cx="5791320" cy="2942640"/>
            <a:chOff x="1523880" y="3917880"/>
            <a:chExt cx="5791320" cy="2942640"/>
          </a:xfrm>
        </p:grpSpPr>
        <p:sp>
          <p:nvSpPr>
            <p:cNvPr id="360" name=""/>
            <p:cNvSpPr/>
            <p:nvPr/>
          </p:nvSpPr>
          <p:spPr>
            <a:xfrm flipV="1">
              <a:off x="1523880" y="5239080"/>
              <a:ext cx="57913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529280" y="5956560"/>
              <a:ext cx="576972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4551840"/>
              <a:ext cx="57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3872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96680" y="523908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02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5320" y="391788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82280" y="640080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8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7656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0160" y="4551840"/>
              <a:ext cx="69228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780200" y="423468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2" name=""/>
            <p:cNvSpPr/>
            <p:nvPr/>
          </p:nvSpPr>
          <p:spPr>
            <a:xfrm>
              <a:off x="2673000" y="492408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3270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8832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541296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5969520" y="603180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45012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3009240" y="550332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"/>
            <p:cNvSpPr/>
            <p:nvPr/>
          </p:nvSpPr>
          <p:spPr>
            <a:xfrm>
              <a:off x="3211200" y="490212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5027400" y="4604760"/>
                  <a:ext cx="47376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9011-AB4C-463C-8D9C-2013E99BB0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579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1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2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of the connection variables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09480" y="1600200"/>
                <a:ext cx="3157560" cy="39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42D9-4810-4D9F-975C-DC8606357C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lternative Connection-based Formu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5760" y="159696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876920" y="2209680"/>
                <a:ext cx="388620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4569840" y="1600200"/>
            <a:ext cx="24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209680"/>
                <a:ext cx="3260880" cy="407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1818-8AE4-421F-984C-A6AA42C971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 Propert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s on 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constraints of the connection variables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on LP relax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LP relaxation of formulation one is at least as strong as those of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DCB1-B16F-44C0-A54C-BDB841B273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blem Siz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network from a major US airline used by Barnhart et al. (2001)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,044 flights and 76,641 itineraries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se 7 copies will be generated for each flight (if 5 minutes interval is used, 7 copies correspond to a 30 minute time window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on average every flight connects to 12 flights with connecting passenger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676520" y="4267080"/>
          <a:ext cx="6629400" cy="2286000"/>
        </p:xfrm>
        <a:graphic>
          <a:graphicData uri="http://schemas.openxmlformats.org/drawingml/2006/table">
            <a:tbl>
              <a:tblPr/>
              <a:tblGrid>
                <a:gridCol w="557280"/>
                <a:gridCol w="1734840"/>
                <a:gridCol w="2679840"/>
                <a:gridCol w="1657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Integer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R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5,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,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03,9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D148-EC66-42AA-87E6-536561BFE37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Oper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any reasons can cause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re weather conditions, unexpected aircraft and personnel failures, congested traffic, etc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lays may propagate through th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ng delays and cancellations cause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Airlines must reschedule aircraft/crew and re-accommodate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Huge revenue los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elays cost consumers and airlines about $6.5 billion in 2000 (Air Transport Association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1413-5BCA-478B-976E-8EDBA7DE3E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Maintain Current Fleeting and Routing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an aircraft maintenance route: the planned turn time &gt;= minimum turn tim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ce               , if the time between the arrival of flight copy        and the departure of flight copy        is less than the minimum turn time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upper bounds will be set to zero for these x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828800" y="2286000"/>
                <a:ext cx="1185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676520" y="2666880"/>
                <a:ext cx="4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858000" y="2743200"/>
                <a:ext cx="53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1676520" y="4191120"/>
            <a:ext cx="5790960" cy="2942640"/>
            <a:chOff x="1676520" y="4191120"/>
            <a:chExt cx="5790960" cy="2942640"/>
          </a:xfrm>
        </p:grpSpPr>
        <p:sp>
          <p:nvSpPr>
            <p:cNvPr id="400" name=""/>
            <p:cNvSpPr/>
            <p:nvPr/>
          </p:nvSpPr>
          <p:spPr>
            <a:xfrm flipV="1">
              <a:off x="1676520" y="5511960"/>
              <a:ext cx="579096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681920" y="6229440"/>
              <a:ext cx="576936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76520" y="4825080"/>
              <a:ext cx="579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910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49320" y="551196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55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67600" y="419112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34920" y="667404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11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292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52800" y="4825080"/>
              <a:ext cx="69228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1932840" y="450792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"/>
            <p:cNvSpPr/>
            <p:nvPr/>
          </p:nvSpPr>
          <p:spPr>
            <a:xfrm>
              <a:off x="2825640" y="519732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4793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30355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55656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6122160" y="630468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66024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3161880" y="577656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"/>
            <p:cNvSpPr/>
            <p:nvPr/>
          </p:nvSpPr>
          <p:spPr>
            <a:xfrm>
              <a:off x="3363480" y="517536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5180040" y="4878000"/>
                  <a:ext cx="47376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84CA-C975-498C-8F40-7DF296480D1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terministic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tribution of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523880" y="2133720"/>
                <a:ext cx="5639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971800" y="2895480"/>
                <a:ext cx="6094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523880" y="3200400"/>
                <a:ext cx="2667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 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057400" y="3962520"/>
                <a:ext cx="4495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ility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can be determined by considerin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- prob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C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F7B1-56AE-41A0-A1FF-8F2F8B2153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use the same four networks, but add all flights together and form one network with total 278 flight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 new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ength of the formu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29" name="LP%20relaxation" descr=""/>
          <p:cNvPicPr/>
          <p:nvPr/>
        </p:nvPicPr>
        <p:blipFill>
          <a:blip r:embed="rId1"/>
          <a:stretch/>
        </p:blipFill>
        <p:spPr>
          <a:xfrm>
            <a:off x="1066680" y="4876920"/>
            <a:ext cx="7086600" cy="11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3C9E-18F6-404E-B0B9-190AD7A7A14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sume 30 minute minimum connecting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July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ust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2" name="July%20-%2030%20min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7467480" cy="1392120"/>
          </a:xfrm>
          <a:prstGeom prst="rect">
            <a:avLst/>
          </a:prstGeom>
          <a:ln w="0">
            <a:noFill/>
          </a:ln>
        </p:spPr>
      </p:pic>
      <p:pic>
        <p:nvPicPr>
          <p:cNvPr id="433" name="August%20-%2030%20min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7391520" cy="137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4110-681B-4F4F-B7B2-10A41CC1D8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6" name="August%20-%2020%20min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37" name="August%20-%2025%20min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716256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B8BB-8C8A-4255-B08F-EC53CB0018A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w many copies to genera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0" name="Prob%20size%201%20min%20interval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638680" cy="2111400"/>
          </a:xfrm>
          <a:prstGeom prst="rect">
            <a:avLst/>
          </a:prstGeom>
          <a:ln w="0">
            <a:noFill/>
          </a:ln>
        </p:spPr>
      </p:pic>
      <p:pic>
        <p:nvPicPr>
          <p:cNvPr id="441" name="Solution%201%20min%20interval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6386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259E-AAB1-4EAB-8367-052053A78A2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Flight Schedule Retim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ummary of Contrib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uture Research Dire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853B-73EC-457A-9E29-675C2317B6E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ummary of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s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1962-FDF5-4A08-8DB1-B656E47551B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ture Research Dir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d Mode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robust aircraft maintenance routing with fleet assign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bust aircraft maintenance routing with time windo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flight schedule re-timing with FAMT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ther approach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with minimal expected co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under demand uncertain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wap opportun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hort cyc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8CC1-ECF9-4018-9080-EACEED609AD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0" name="July%20-%2025%20min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51" name="July%20-%2020%20min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7086600" cy="13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DCD6-3FCB-42DD-806B-151C723DDE7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ight Delays &amp;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nd (1995-1999)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80%) in flights delayed more than 45 mi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500%) in the number of cancelled fligh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ear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0% of flights dela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5% of flights cancell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ture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 traffic in US is expected to double in the next 10-15 year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ach 1% increase in air traffic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 5% increase in delay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ad to more frequent and serious delay and schedule disruption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4865-C996-4D0F-8208-B9C52A79CF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act on Passeng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ll passengers connecting from A to B are disrupted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umber of disrupted passengers only calculated for connections between flights that both have ASQP record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QP has records only for domestic flights flown by jet airplanes and major airlines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ctual departure and arrival times for flights without ASQP records are unknown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ssume no disruptions for these fligh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ssengers only counted as disrupted onc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passenger is disrupted on any flight leg of itinerary, passenger not counted as disrupted on the following flight leg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3005-2117-4041-98AF-E81E3AF32DA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difference between scheduled and actual arrival time at passengers’ destin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6" name="delay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51818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0086-82EF-4A28-8650-03C64E2D2E6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numbers: 4%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20-30 million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perience very long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ribute to more than half of the total passenger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use huge revenue lo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troy airlines’ imag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e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assenger delay caused by disruption is the most critical pa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rd to determine the delays for each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E46F-2AA1-4681-986E-BA9D736B979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P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gorithm for LP relaxation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0: Create initial feasible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1: Solve the restricted master problem (RMP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d optimal solution to RMP with a subset of all strings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2: Solve the pricing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nerate strings with negative reduced c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no string is generated, stop: the LP is solv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3: Construct a new restricted master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 the strings genera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o to step 1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0A71-8C86-40F2-A514-D1E9A52F806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easible string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ligh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ground variabl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set of strings ending (starting) wit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binary decision variable for each feasible string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integer variable to count number of aircraft on the ground at maintenance sta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838080" y="3429000"/>
                <a:ext cx="385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38080" y="2971800"/>
                <a:ext cx="91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38080" y="4800600"/>
                <a:ext cx="1086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838080" y="5638680"/>
                <a:ext cx="1062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B2B9-542A-4187-81B8-35F2FFA168D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 (Cont.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propagated delay from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to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nd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re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indicator variable, equals 1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s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, and equals 0 otherwi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, a single point time at which to count aircraf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ground arc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: number of planes available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838080" y="1447920"/>
                <a:ext cx="53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838080" y="2286000"/>
                <a:ext cx="432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838080" y="3200400"/>
                <a:ext cx="3747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826920" y="4191120"/>
                <a:ext cx="3780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9F86-E104-46B5-8EE2-B50F649E6E9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line Service Quality Performance (ASQP) provides good source of delay inform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QP provides flight operation information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ll domestic flights served by jet aircraft by major airlines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lanned departure time and arrival time, actual departure time and arrival time (including wheels-off and wheels-on time, taxi-out and taxi-in time, airborne tim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tail number for each fligh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ncelled flights  (reasons for cancellation, and aircraft tail number are not availabl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BC1D-7560-4E77-9A4D-F5368C7D52E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 of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cancelled flights in the historical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know which aircraft supposed to fly th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have the delay informa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assume the propagated delays for these flights are zer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wer cancellation ra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ss passengers disrupted because of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passengers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 days in Aug 2000 with very few cancellations (cancellation rate = 0.19%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 2000, 65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7 selected days in Aug 2000, 92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733C-C8D6-48DA-A045-4F8C891AAE8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Low Cancellation D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isruptions for 7 selected days in Aug 2000 with very few cancel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tion in number of disrupted passengers per non-cancelled flights is same as that for entire month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600200" y="2514600"/>
          <a:ext cx="4952880" cy="21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495288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B359-A5E7-4663-A4CD-D292056C9F8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tens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schedul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slacks may be added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further reduce 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fleet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determine cost for 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feasible string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better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um turn time is a function of fleet typ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 with fleet assignment and schedule gen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E85F-8EC8-4EE8-9AFF-A6931618EAB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 becau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ights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time to connec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% of passengers disrupted in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lf of them are connecting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ery long delays for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verage delay for disrupted passengers is approx. 419 minutes (versus 14 min delay for non-disrupted passengers) (Bratu and Barnhart, 200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gnificant revenue lo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FE21-468B-4A59-9481-1F78BD57C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r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DA30-D880-4844-9F13-92D239CE46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How to deal with schedule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Challenges of building robust airline schedu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finitions of robustne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Robust airline schedule planning approach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--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7E46-D2AB-433F-A882-B3F316F728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Deal with Schedule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wo ways to deal with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-optimize schedule after disruptions occur (operation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uild robustness into the schedules (planning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isting planning systems do not have effective methods to manage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ore robust plan can reduce the effect of  disruptions on the operations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reduce operation costs and improve quality of serv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bust airline schedule planning methods are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FA26-855C-4C5A-B033-4D595CC364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22:04:04Z</dcterms:created>
  <dc:creator> </dc:creator>
  <dc:description/>
  <dc:language>en-US</dc:language>
  <cp:lastModifiedBy>CEE</cp:lastModifiedBy>
  <cp:lastPrinted>2002-10-17T14:54:11Z</cp:lastPrinted>
  <dcterms:modified xsi:type="dcterms:W3CDTF">2004-02-24T19:39:39Z</dcterms:modified>
  <cp:revision>475</cp:revision>
  <dc:subject/>
  <dc:title>Fleet Assignment under Demand Uncertainty</dc:title>
</cp:coreProperties>
</file>