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DA9FEA-9D75-4FC2-B0A2-3E60BD7B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16AA23-5F21-474F-ACA6-4287FA4F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2BA5D-4D00-4249-B14E-5A16BFDD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77E418-F1CB-462B-A534-AC401192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5892A-F2F1-498F-B5BF-621F3665E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1FC-8AD9-42E0-82F5-453E6316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F90-31FC-4118-8F81-A4A1429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07A-147E-41DC-97C6-C320783C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5B9-D800-45E6-8553-E7D0135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A04-3D92-4573-A8DD-EF65DD2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0EE-FC78-4E9D-86BF-6D6E0AF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9C6-9C68-4B6E-A578-7AF40C2A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72-07EB-48F5-A843-CBEB8A4E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399-08DE-47D9-B03D-3DD7B02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545-358C-4502-9158-3A8DB15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948-634B-4DB3-A33B-9B04CEE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771-2C5B-4124-A994-24BFAF2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E294-9B8C-49D8-B301-78D9E48013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5359-2B2C-4B78-B870-6003F7CFB8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4EC-DE75-4721-9572-70C779CE71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62509-30D1-4AFA-82E2-754E8F5B08D8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9F8-492A-4096-A2A1-4C3F9C156D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A97A-4241-4E36-8FA0-72604BA215B5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D81-17CF-4DA9-BFA2-E961C60871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DBA9-B09F-4386-AE3B-47B098A0F1A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F69-7E85-4C35-B5CF-4E7A7D6D8A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D591C-EF77-4F6D-8F6C-5BB237DA2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856-08B6-4220-A792-C9078EEB1B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85B79-40EA-4CD3-894A-6F1279BF41F9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B5-81C2-474A-86BE-F9CF042837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DF056-409C-4A0B-A9E4-C361916FD9B5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DE7-BEA2-4558-9DCA-0108005336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2FC73-0097-4AB1-A252-0049B4A730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F3B-DB62-4E5A-93F8-595C05165F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19195-3F33-4728-BF65-BFBF939C07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204-6DF4-4FF9-A423-C02D79CA96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D6575-62DC-4F8C-B9CF-ED44E1880C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72D-609B-4E13-9C2A-6D55546709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96AE0-F199-4FF5-B802-3557BEA56D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671-02DF-479A-96AA-D1069269FE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C982C-B62C-4FBC-B082-93D4FB881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3D4-7288-4838-ACAF-2836C0F8F2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311A8-96A9-45D8-9BFF-6488FA208B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D0C-1AD5-495C-BD60-4B35094D86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D3B5A-9732-4F3B-A6FE-BB0905CA1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DF6-14E7-4838-97F2-5590A2063D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686D9-A617-4165-966A-F7C4C599A6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44A-833C-411B-B42A-9450AEB545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19092-AF63-491F-8BD0-E05FB7814A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6DD-F2CC-4E26-9C94-18686E96CD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4DC72-E3EE-4C63-8C00-847BB933DA03}" type="datetime5">
              <a:rPr lang="en-US"/>
              <a:t>Jul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000-B280-4424-835F-3D6EDB7015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BBFD3-8329-48F7-962E-76C5D31CBC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898-3DBB-403E-B409-666AF9F928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3C8D6-1A0F-4DB1-A7E7-9F253F39BA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F64-2056-491C-81CE-4BAB6FF791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B0616-D526-4F9D-ACC9-CD92BDBEFB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747-9E59-4310-B34A-05CF2368C2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8DA18-3ACA-4C49-9765-4360BFC742E9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178-AAED-4F1D-ADD4-1444C3FB3F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1515C-5205-47B3-901B-7D61D790D6DE}" type="datetime5">
              <a:rPr lang="en-US"/>
              <a:t>Jul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