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9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27.wmf" ContentType="image/x-wmf"/>
  <Override PartName="/ppt/media/image5.png" ContentType="image/png"/>
  <Override PartName="/ppt/media/image13.wmf" ContentType="image/x-wmf"/>
  <Override PartName="/ppt/media/image8.wmf" ContentType="image/x-wmf"/>
  <Override PartName="/ppt/media/image9.wmf" ContentType="image/x-wmf"/>
  <Override PartName="/ppt/media/image4.wmf" ContentType="image/x-wmf"/>
  <Override PartName="/ppt/media/image34.wmf" ContentType="image/x-wmf"/>
  <Override PartName="/ppt/media/image10.wmf" ContentType="image/x-wmf"/>
  <Override PartName="/ppt/media/image30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0D2F-B5DC-4D83-8AA7-6F3BCA7C4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C145-ED99-48A3-9C4F-21778D1BD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9D6E-0477-45BD-80EC-C888A558F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28F8-0442-4B03-85C2-3A76BC964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5049-CDB5-49B2-9CA4-1013D8A4A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DEEC-5F6F-4D9F-AD88-BE00AC93C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C7F5-1D6E-4D73-9407-92D120A44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4583-9BA6-4585-9BC2-82EC6AFDC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C9CA-7F8A-407D-9DA2-4C8892F45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A4FC-ED04-4FBE-82C0-21C10A4B8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9898-12D9-41A8-8D32-CF161D8A4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D516-0B1D-4041-96C9-19050BE16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074600" indent="-226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414440" indent="-22608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1753560" indent="-22608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1753560" indent="-22608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1753560" indent="-22608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591240"/>
            <a:ext cx="205740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4D105-42F8-45FA-A599-BC765A641DA0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01920" y="6590880"/>
            <a:ext cx="2895840" cy="2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360" y="6590880"/>
            <a:ext cx="1904760" cy="2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D4476-706C-44E0-9014-2DE81E3E789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image" Target="../media/image16.wmf"/><Relationship Id="rId7" Type="http://schemas.openxmlformats.org/officeDocument/2006/relationships/image" Target="../media/image17.wmf"/><Relationship Id="rId8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image" Target="../media/image24.wmf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image" Target="../media/image29.wmf"/><Relationship Id="rId5" Type="http://schemas.openxmlformats.org/officeDocument/2006/relationships/image" Target="../media/image30.wmf"/><Relationship Id="rId6" Type="http://schemas.openxmlformats.org/officeDocument/2006/relationships/image" Target="../media/image31.wmf"/><Relationship Id="rId7" Type="http://schemas.openxmlformats.org/officeDocument/2006/relationships/image" Target="../media/image32.wmf"/><Relationship Id="rId8" Type="http://schemas.openxmlformats.org/officeDocument/2006/relationships/image" Target="../media/image33.wmf"/><Relationship Id="rId9" Type="http://schemas.openxmlformats.org/officeDocument/2006/relationships/image" Target="../media/image34.wmf"/><Relationship Id="rId10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01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084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3048120"/>
          </a:xfrm>
          <a:prstGeom prst="rect">
            <a:avLst/>
          </a:prstGeom>
          <a:solidFill>
            <a:srgbClr val="0066ff"/>
          </a:solidFill>
          <a:ln w="1260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.206J/16.77J/ESD.215J</a:t>
            </a: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  </a:t>
            </a:r>
            <a:br>
              <a:rPr sz="5400"/>
            </a:b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Airline Schedule Planning</a:t>
            </a: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0" y="2362320"/>
            <a:ext cx="9144000" cy="44956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ynthia Barnhar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Spring 2003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Duty Cost Func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ximum of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otal flying tim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d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* total duty tim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inimum guaranteed duty pa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imarily compensates for flying time, but also compensates for “undesirable” schedul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63BD-B8CC-46E7-9BE9-EDEB9367785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3852CD-095D-4F3A-AEE4-C1E35236115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Pairing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ition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sequence of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duty period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 interspersed with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periods of rest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 that begins and ends at a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crew domici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86B8-D0AB-4119-9C39-445DDD0375E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A75DF4-0A0B-4360-80AC-383BB2E00FB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Pairing Rule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ule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rst duty starts/last duty ends at domici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uties are sequential in space/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inimum rest between dut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ximum layover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ximum number of days away from bas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8-in-24 r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1359-53E5-42F9-9D77-D96C55C276A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41546C-6471-4818-A8C6-ED57B94AE20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Pairing Cost Func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ximum of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um of duty cos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* total time away from base (TAFB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inimum guaranteed pairing pa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9BBE-345C-48B7-BE5C-D973CCA457F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519E77-01A9-4B6D-A8BD-B445ECBFF93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Schedule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ules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inimum rest between pairing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aximum monthly flying tim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aximum time on dut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inimum total number of days off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wo key differences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st function focuses on crew preferenc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chedules individuals rather than complete crew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DABD-1825-4296-95DF-61C30172852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A0F621-C45F-4B11-B741-2AF6BA670A8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rew Scheduling Problem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"/>
          <p:cNvSpPr/>
          <p:nvPr/>
        </p:nvSpPr>
        <p:spPr>
          <a:xfrm>
            <a:off x="1447920" y="1371600"/>
            <a:ext cx="6172200" cy="44197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ew Scheduling Probl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447920" y="1359000"/>
            <a:ext cx="6184800" cy="44323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447920" y="1359000"/>
            <a:ext cx="6184800" cy="44323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488880" y="1251000"/>
            <a:ext cx="8166240" cy="46609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482760" y="1219320"/>
            <a:ext cx="8178480" cy="48258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5"/>
          <a:stretch/>
        </p:blipFill>
        <p:spPr>
          <a:xfrm>
            <a:off x="254160" y="1130400"/>
            <a:ext cx="8635680" cy="4902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9C08-8436-4EF9-BBCE-FF5FE076B410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3DFB1F-8EDB-439C-9A06-F98DCAEF9D9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Pairing Problem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lect a minimum cost set of pairings such that every flight is included in exactly one pair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w Pairing Decomposi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ail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eekl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xcepti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ransiti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A3FC-EAAA-4365-A4AF-91ADA26AC2B4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35265F-92EB-48D6-B0AF-717E8D1B1EB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Daily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flights operating four or more times per wee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hosen pairings will be repeated each da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ulti-day pairings will be flown by multiple crew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lights cannot be repeated in a pair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8115-E647-4C59-9440-BE0F2CBD420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A8B643-7C64-47F8-A1DE-29885E6856F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xampl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"/>
          <p:cNvSpPr/>
          <p:nvPr/>
        </p:nvSpPr>
        <p:spPr>
          <a:xfrm>
            <a:off x="159840" y="1336680"/>
            <a:ext cx="79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N        TUE      WED      THU         FRI       SAT          SU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03040" y="1955880"/>
            <a:ext cx="3302280" cy="4064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1346040" y="2489040"/>
            <a:ext cx="3302280" cy="4064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2489040" y="3022560"/>
            <a:ext cx="3302280" cy="4064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3632040" y="3556080"/>
            <a:ext cx="3302280" cy="4064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5"/>
          <a:stretch/>
        </p:blipFill>
        <p:spPr>
          <a:xfrm>
            <a:off x="4775040" y="4089240"/>
            <a:ext cx="3302280" cy="406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6"/>
          <a:stretch/>
        </p:blipFill>
        <p:spPr>
          <a:xfrm>
            <a:off x="228600" y="4648320"/>
            <a:ext cx="7883640" cy="4190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7"/>
          <a:stretch/>
        </p:blipFill>
        <p:spPr>
          <a:xfrm>
            <a:off x="228600" y="5143680"/>
            <a:ext cx="7883640" cy="41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D77D-741E-4341-9123-7316F7EBE3C3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7721D7-C418-49F7-88D4-0467FD54897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xample, cont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"/>
          <p:cNvSpPr/>
          <p:nvPr/>
        </p:nvSpPr>
        <p:spPr>
          <a:xfrm>
            <a:off x="159840" y="1336680"/>
            <a:ext cx="79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N        TUE      WED      THU         FRI       SAT          SU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03040" y="1955880"/>
            <a:ext cx="3302280" cy="4064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1346040" y="2489040"/>
            <a:ext cx="3302280" cy="4064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2489040" y="3022560"/>
            <a:ext cx="3302280" cy="4064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3632040" y="1905120"/>
            <a:ext cx="3302280" cy="4064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5"/>
          <a:stretch/>
        </p:blipFill>
        <p:spPr>
          <a:xfrm>
            <a:off x="4775040" y="2438280"/>
            <a:ext cx="3302280" cy="4064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5924520" y="2978280"/>
            <a:ext cx="992160" cy="382320"/>
          </a:xfrm>
          <a:prstGeom prst="rect">
            <a:avLst/>
          </a:prstGeom>
          <a:solidFill>
            <a:srgbClr val="ff3399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0080" y="3035160"/>
            <a:ext cx="759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uty 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067520" y="2978280"/>
            <a:ext cx="992160" cy="382320"/>
          </a:xfrm>
          <a:prstGeom prst="rect">
            <a:avLst/>
          </a:prstGeom>
          <a:solidFill>
            <a:srgbClr val="ff3399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189920" y="3035160"/>
            <a:ext cx="7444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uty 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77920" y="2436840"/>
            <a:ext cx="992160" cy="382680"/>
          </a:xfrm>
          <a:prstGeom prst="rect">
            <a:avLst/>
          </a:prstGeom>
          <a:solidFill>
            <a:srgbClr val="ff3399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00320" y="2494080"/>
            <a:ext cx="7444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uty 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093080" y="1905120"/>
            <a:ext cx="992160" cy="382320"/>
          </a:xfrm>
          <a:prstGeom prst="rect">
            <a:avLst/>
          </a:prstGeom>
          <a:solidFill>
            <a:srgbClr val="ff9933"/>
          </a:solidFill>
          <a:ln w="1260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208640" y="1962000"/>
            <a:ext cx="759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uty 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7160" y="3046320"/>
            <a:ext cx="992160" cy="382680"/>
          </a:xfrm>
          <a:prstGeom prst="rect">
            <a:avLst/>
          </a:prstGeom>
          <a:solidFill>
            <a:srgbClr val="ff9933"/>
          </a:solidFill>
          <a:ln w="1260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49560" y="3103560"/>
            <a:ext cx="7444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uty 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370160" y="3046320"/>
            <a:ext cx="992160" cy="382680"/>
          </a:xfrm>
          <a:prstGeom prst="rect">
            <a:avLst/>
          </a:prstGeom>
          <a:solidFill>
            <a:srgbClr val="ff9933"/>
          </a:solidFill>
          <a:ln w="1260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492560" y="3103560"/>
            <a:ext cx="7444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uty 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FB26-BB56-4CE7-B45B-8CB616D412E1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1CAC9D-4AA7-45AC-851F-0763D2D200F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.206J/16.77J/ESD.215J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    </a:t>
            </a:r>
            <a:br>
              <a:rPr sz="4400"/>
            </a:b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The Crew Scheduling Problem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utlin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oblem Defini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quential Solution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w Pairing Optimization Mod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ranch-and-Price Solu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085760" indent="-228600"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ranching strategi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48A3-4B29-469C-9F75-0CAE02F6D84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D09DAA-25F6-4EA5-8C1F-04A9BF6D4C5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Weekly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ver all flights scheduled in a week-long perio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leet assignment on a particular flight leg can vary by day of wee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dentify flights by day-of-week as well as flight number, location,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DC44-EC40-47DB-B23E-AB73FAB15E4F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1EBB55-01BA-4004-BC85-7A2CC5010D2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xception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ver all flights in “broken pairing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ver all flights that are scheduled at most three times/wee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dentify flights by day-of-week as well as flight number, location,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enerate “weekly” pairing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E882-9F74-4D8A-92D3-2E6526F8BD87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8492A3-F054-429F-8DDC-5DB1BC3AD69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Transi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ver flights in pairings that cross the end of the mont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dentify flights by date as well as flight number, location, time, day-of-week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enerate pairings connecting two different flight schedul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3B56-D442-44E4-954F-DAACFD2A6650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883D0E-6A50-491B-B1CB-A7D4777A32A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rew Planning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"/>
          <p:cNvSpPr/>
          <p:nvPr/>
        </p:nvSpPr>
        <p:spPr>
          <a:xfrm>
            <a:off x="812880" y="3048120"/>
            <a:ext cx="1854000" cy="1066680"/>
          </a:xfrm>
          <a:prstGeom prst="rect">
            <a:avLst/>
          </a:prstGeom>
          <a:solidFill>
            <a:srgbClr val="ed253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Dai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Probl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9880" y="3124080"/>
            <a:ext cx="1981440" cy="1067040"/>
          </a:xfrm>
          <a:prstGeom prst="rect">
            <a:avLst/>
          </a:prstGeom>
          <a:solidFill>
            <a:srgbClr val="ed253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Excep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477120" y="3124080"/>
            <a:ext cx="2057400" cy="1067040"/>
          </a:xfrm>
          <a:prstGeom prst="rect">
            <a:avLst/>
          </a:prstGeom>
          <a:solidFill>
            <a:srgbClr val="ed253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ransi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666880" y="3581280"/>
            <a:ext cx="11430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791320" y="3657600"/>
            <a:ext cx="685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645280" y="4191120"/>
            <a:ext cx="115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brok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pairing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"/>
          <p:cNvSpPr/>
          <p:nvPr/>
        </p:nvSpPr>
        <p:spPr>
          <a:xfrm>
            <a:off x="5388480" y="4191120"/>
            <a:ext cx="115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broke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pairing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4ADF-AD0D-4A34-86F8-A1BCC4A258E9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21C603-6FC1-4E71-B49D-44BB9AC6133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Assignment Problem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fied at the individual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corporates rest, vacation time, medical leave, train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cus is not on cost but crew needs/ preferenc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71C4-F709-4B87-B408-851548248EB4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9EDE2B-9BA3-458C-A5FD-A12760F929E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The Bidline Problem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irings are constructed into generic schedul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chedules are posted and crew members bid for specific schedul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ore senior crew members given greater priorit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monly used in the U.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2279-DE4F-4B5B-9657-44E9C7D44AC7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53F707-7F4C-4AA4-9C0D-FB54ECA2EC0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The Rostering Problem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ersonalized pairings are construct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corporates crew vacation requests, training needs, etc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igher priority given to more senior crew membe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ypical outside the U.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D113-09DC-4E7E-AEFA-F62BBABE1D09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83E30B-A946-4980-AE97-44D7EAD7E0F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Pairing vs. Assignmen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Similaritie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631440" indent="-242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quencing flights to form pairings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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sequencing pairings to form schedul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31440" indent="-242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t partitioning formulations (possibly with side constraints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ifference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631440" indent="-242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crews vs. single crew memb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31440" indent="-242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bjective function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31440" indent="-242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me horiz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B104-35CC-4BBB-B4A3-439D6202C133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45BAFE-B201-43AE-A76D-CE28341187D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ockpit vs. Cabi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ckpit crews stay together; cabin crews do no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ckpit crew makeup is fixed; cabin needs can vary by deman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abin crew members have a wider range of aircraft they can staff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ckpit crew members receive higher salar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A4E0-AD01-4FB6-BF1D-41DB248CD465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10EF0B-7C79-44C9-8626-D59A8D4CAF9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Domestic vs. International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omestic U.S. networks of large carriers are predominantly hub-and-spoke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ith many connection opportuniti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omestic networks are usually dail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ternational networks are typically point-to-poi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ore of a need to use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deadhead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ternational networks are typically weekl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9D47-3EFA-4387-8BE2-8183F82D54BF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9BE93A-AD81-4FC6-916D-F3D6CA22F18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Why Crew Scheduling?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largest operating expense (after fuel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R success stor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mplex problems with many remaining opportuniti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 case study for techniques to solve large IP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48B1-15F4-400F-A991-A56BD77E9C8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CA4F33-933B-4216-907B-0A8122F6EC6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Recovery Problem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iven a disruption, adjust the crew schedule so that it becomes feasi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at is our objective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urn to original schedule as quickly as possible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inimize passenger disruptions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inimize cost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mited time horizon -- need fast heuristic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88ED-AC59-486C-AD12-9F7EBF020B93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40436F-3C8B-4248-AE45-2A614CE67C5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Focus: Daily Domestic Cockpit Crew Pairing Problem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Problem descriptio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Formulatio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Solution approache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omputational result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Integration with aircraft routing, FAM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5CD3-46CA-4F5C-8A5F-EF6B0AB6B758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28D5C2-149F-41FF-AEEA-F8B6A610349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The Crew Pairing Problem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iven a set of flights (corresponding to a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dividual fleet type or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fleet family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), choose 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inimum cost set of pairings such that ever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light is covered exactly once (i.e. every flight i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tained in exactly one pairing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A80D-1A4B-42CA-87BC-9A9A8BD6C388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BCE652-FEDF-44BE-91FE-2580C280714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Nota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440" y="177156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is the set of feasible pairings for fleet type 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is the set of daily flights assigned to fleet type 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Garamond"/>
                <a:ea typeface="Times New Roman"/>
              </a:rPr>
              <a:t>fp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 is defined to be 1 if flight f is included in pairing p, else 0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c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Garamond"/>
                <a:ea typeface="Times New Roman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 is the cost of pairing p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x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Garamond"/>
                <a:ea typeface="Times New Roman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 is a binary decision variable – value 1 indicates that pairing p is chosen, else 0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2DF5-F7CD-445D-8FFD-2156C6FBEE12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65AF71-940B-437D-B1D7-45C429E47DE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Formula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"/>
          <p:cNvSpPr/>
          <p:nvPr/>
        </p:nvSpPr>
        <p:spPr>
          <a:xfrm>
            <a:off x="1447920" y="1371600"/>
            <a:ext cx="6400800" cy="464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2133720" y="1447920"/>
                <a:ext cx="4876560" cy="442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k</m:t>
                                </m:r>
                              </m:sup>
                            </m:sSup>
                          </m:sub>
                          <m:sup/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t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k</m:t>
                                </m:r>
                              </m:sup>
                            </m:sSup>
                          </m:sub>
                          <m:sup/>
                          <m:e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fp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   </m:t>
                        </m:r>
                        <m:r>
                          <m:t xml:space="preserve">∀</m:t>
                        </m:r>
                        <m:r>
                          <m:t xml:space="preserve">f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k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∈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,1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∀</m:t>
                        </m:r>
                        <m:r>
                          <m:t xml:space="preserve">p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k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62D8-3B2A-455C-AF29-1F65B61345AD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174291-4781-452E-8160-3F282B57EEC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Is this an easy problem?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near objective func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o complex feasibility rul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to write/intuitiv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mall number of constrain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uge number of integer variabl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B13A-B306-4857-9B74-30A14DEAE7E3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7A9077-6715-4B8D-9AFB-3E2240347F5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How do we solve it?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We need branch-and-bound to solve the IP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9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We need column generation to solve the individual LP relaxation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9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Branch-and-price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combines the tw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AB00-DD44-467E-B629-6A3F1E9F43B8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9E2A48-9239-48CE-86EC-CF4010BC70E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olumn Generation Review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lumn generation solves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linear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programs with a large number of variabl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tart with a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restricted master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– a subset of the variabl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olve to optimalit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put the duals to a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pricing problem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and look for negative reduced cost colum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pe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8097-FEFA-4079-8FFF-2D246D4ED6C9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3620D4-3869-495C-B92F-33A0AF07A59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Generating Crew Pairing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tart with enough columns to ensure a feasible solution (may need to use artificial variables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olve Restricted Master proble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ok for one or more negative reduced cost columns for each crew base; add to Restricted Master problem and re-solv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f no new columns are found, LP is optima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BA8C-3A89-47C4-9B2A-114F7397BE12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D1FA12-AF0A-425B-83EB-4A0EE491FA2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rew Pairing Reduced Cos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cost of pairing p 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3" name=""/>
          <p:cNvSpPr/>
          <p:nvPr/>
        </p:nvSpPr>
        <p:spPr>
          <a:xfrm>
            <a:off x="1219320" y="2819520"/>
            <a:ext cx="7238880" cy="22096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1295280" y="3060720"/>
                <a:ext cx="7220160" cy="16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3163-9C01-47EA-9A09-07421E03B033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96C9DC-8CB7-40AC-8EED-526CB659552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Airline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Schedule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Planning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1954080" y="1752480"/>
            <a:ext cx="5104800" cy="4267080"/>
            <a:chOff x="1954080" y="1752480"/>
            <a:chExt cx="5104800" cy="4267080"/>
          </a:xfrm>
        </p:grpSpPr>
        <p:sp>
          <p:nvSpPr>
            <p:cNvPr id="51" name=""/>
            <p:cNvSpPr/>
            <p:nvPr/>
          </p:nvSpPr>
          <p:spPr>
            <a:xfrm>
              <a:off x="1954080" y="1752480"/>
              <a:ext cx="5104800" cy="8380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Schedule Desig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954080" y="2971440"/>
              <a:ext cx="510480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Fleet Assignmen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954080" y="4114440"/>
              <a:ext cx="510480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Aircraft Routi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54080" y="5257440"/>
              <a:ext cx="510480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Crew Scheduli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428720" y="259056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428720" y="373356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428720" y="487656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2FA4-40FC-4454-B1DE-ED4345587151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C4F391-4993-4173-8D4E-365C00F51D9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Formula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6" name=""/>
          <p:cNvSpPr/>
          <p:nvPr/>
        </p:nvSpPr>
        <p:spPr>
          <a:xfrm>
            <a:off x="1447920" y="1371600"/>
            <a:ext cx="6400800" cy="464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2133720" y="1447920"/>
                <a:ext cx="4876560" cy="442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k</m:t>
                                </m:r>
                              </m:sup>
                            </m:sSup>
                          </m:sub>
                          <m:sup/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t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k</m:t>
                                </m:r>
                              </m:sup>
                            </m:sSup>
                          </m:sub>
                          <m:sup/>
                          <m:e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fp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   </m:t>
                        </m:r>
                        <m:r>
                          <m:t xml:space="preserve">∀</m:t>
                        </m:r>
                        <m:r>
                          <m:t xml:space="preserve">f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k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∈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,1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∀</m:t>
                        </m:r>
                        <m:r>
                          <m:t xml:space="preserve">p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k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3B30-CCF8-44C7-AD19-29B7036BB5F1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09DDD1-B86E-4C7D-8580-64295F27880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Pricing as a Shortest Path Problem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pairing can be seen as a path, where nodes represent flights and arcs represent valid connecti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ths must start/end at a given crew base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r daily problem,  paths cannot repeat a fligh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ths must satisfy duty and pairing rul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th costs can be computed via labels corresponding to pairing reduced cos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C172-D634-4846-AA69-113306E79265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714D20-FAB2-4C21-B61F-DA36DFBF6DE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Network Structur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nection arc networ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odes represent fligh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rcs represent (potentially) feasible connecti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ultiple copies of the network in order to construct multi-day pairing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ource/sink nodes at the crew bas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0C15-3A78-47F9-A53E-78FE03BCC218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54F92D-3D96-4FF7-B958-CC924937972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Network Exampl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"/>
          <p:cNvSpPr/>
          <p:nvPr/>
        </p:nvSpPr>
        <p:spPr>
          <a:xfrm>
            <a:off x="457200" y="3429000"/>
            <a:ext cx="1143000" cy="1143000"/>
          </a:xfrm>
          <a:prstGeom prst="ellipse">
            <a:avLst/>
          </a:prstGeom>
          <a:solidFill>
            <a:srgbClr val="00ccff"/>
          </a:solidFill>
          <a:ln w="76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imes New Roman"/>
              </a:rPr>
              <a:t>B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1447920" y="2819520"/>
            <a:ext cx="1371600" cy="761760"/>
          </a:xfrm>
          <a:prstGeom prst="line">
            <a:avLst/>
          </a:prstGeom>
          <a:ln w="7632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523880" y="4419720"/>
            <a:ext cx="1219320" cy="685800"/>
          </a:xfrm>
          <a:prstGeom prst="line">
            <a:avLst/>
          </a:prstGeom>
          <a:ln w="7632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486400"/>
            <a:ext cx="3200400" cy="304920"/>
          </a:xfrm>
          <a:prstGeom prst="line">
            <a:avLst/>
          </a:prstGeom>
          <a:ln w="7632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2666880" y="1295280"/>
            <a:ext cx="5651640" cy="519444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3792600" y="1905120"/>
            <a:ext cx="2760480" cy="71100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>
            <a:off x="3792600" y="2819520"/>
            <a:ext cx="2684520" cy="9093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4"/>
          <a:stretch/>
        </p:blipFill>
        <p:spPr>
          <a:xfrm>
            <a:off x="3809880" y="3962520"/>
            <a:ext cx="2760840" cy="1253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B22B-B4B1-46DB-9BE1-1B38E1E45F56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AA7F3E-3AA1-4737-B40C-337EF430ABA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Multi-Day Network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"/>
          <p:cNvSpPr/>
          <p:nvPr/>
        </p:nvSpPr>
        <p:spPr>
          <a:xfrm>
            <a:off x="304920" y="3809880"/>
            <a:ext cx="304560" cy="3049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066680" y="2057400"/>
            <a:ext cx="0" cy="365760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600200" y="2590920"/>
            <a:ext cx="304920" cy="3045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981080" y="3276720"/>
            <a:ext cx="304920" cy="3045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447920" y="3886200"/>
            <a:ext cx="304560" cy="3049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362320" y="4419720"/>
            <a:ext cx="304560" cy="3045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438280" y="2438280"/>
            <a:ext cx="304920" cy="3049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200400" y="2057400"/>
            <a:ext cx="0" cy="365760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733920" y="2590920"/>
            <a:ext cx="304560" cy="3045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581280" y="3886200"/>
            <a:ext cx="304920" cy="3049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95680" y="4419720"/>
            <a:ext cx="304920" cy="3045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572000" y="2438280"/>
            <a:ext cx="304920" cy="3049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334120" y="2057400"/>
            <a:ext cx="0" cy="365760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867280" y="2590920"/>
            <a:ext cx="304920" cy="3045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248520" y="3276720"/>
            <a:ext cx="304560" cy="3045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715000" y="3886200"/>
            <a:ext cx="304920" cy="3049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629400" y="4419720"/>
            <a:ext cx="304920" cy="3045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705720" y="2438280"/>
            <a:ext cx="304560" cy="3049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543800" y="2057400"/>
            <a:ext cx="0" cy="365760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8077320" y="3809880"/>
            <a:ext cx="304560" cy="3049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131B-D5FD-4262-9358-4CC612D217C3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6A8FB6-0A63-4B5F-BCEC-B04E828DF74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Label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761760" y="15238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easibility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airing: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in rest between duti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ax rest between duti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ax # of duti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uty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ax flyin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ax duty tim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in idle (connection arcs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ax idle (connections arcs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876560" y="17524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st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airing -- max of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um of duty cos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* TAF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in guarantee pa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uty -- max of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otal flying tim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d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* total duty tim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in guarantee pa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A5E8-0DC2-472F-82DD-C6D67955CF66}" type="slidenum">
              <a:t>4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3027CB-AAA9-427F-BF48-E6FF6AE810D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Labels, cont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abels have to track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urrent duty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572040" indent="-219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lying time in current dut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572040" indent="-219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otal elapsed time in current dut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572040" indent="-219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urrent duty cos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airing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572040" indent="-219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airing TAF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572040" indent="-219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um of completed duties’ cos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572040" indent="-219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# completed duti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572040" indent="-219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urrent pairing reduced cos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47960" y="12952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abels also contain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abel id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evious fligh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evious flight’s label i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EEC8-1172-4D1A-B15C-6B2C5DC43B3B}" type="slidenum">
              <a:t>46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2D82AF-6D9A-411A-A8A1-336CD6DD3A5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Processing Label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9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For each node (in topological order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r each label at that nod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966240" indent="-203400"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or each connection arc out of that nod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3" marL="1271520" indent="-203400"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rocess the arc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271520" indent="-203400"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f a label is created, check existing labels for dominanc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271520" indent="-203400"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f the node ends at the crew base and reduced cost is negative, a potential column’s been foun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5A8B-A4E4-4A7D-BFF7-3494C6B078BB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A21D46-AED6-48F2-843A-7CBADA7B375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808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Processing Labels, cont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4" name=""/>
          <p:cNvSpPr/>
          <p:nvPr/>
        </p:nvSpPr>
        <p:spPr>
          <a:xfrm>
            <a:off x="2336760" y="2133720"/>
            <a:ext cx="1371600" cy="1371600"/>
          </a:xfrm>
          <a:prstGeom prst="rect">
            <a:avLst/>
          </a:prstGeom>
          <a:solidFill>
            <a:srgbClr val="00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imes New Roman"/>
              </a:rPr>
              <a:t>Flight repeat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5800" y="2133720"/>
            <a:ext cx="914400" cy="1371600"/>
          </a:xfrm>
          <a:prstGeom prst="rect">
            <a:avLst/>
          </a:prstGeom>
          <a:solidFill>
            <a:srgbClr val="ffff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imes New Roman"/>
              </a:rPr>
              <a:t>Give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imes New Roman"/>
              </a:rPr>
              <a:t>Ar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2311560" y="762120"/>
            <a:ext cx="1396800" cy="142236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3708360" y="2108160"/>
            <a:ext cx="2563920" cy="1397160"/>
          </a:xfrm>
          <a:prstGeom prst="rect">
            <a:avLst/>
          </a:prstGeom>
          <a:ln w="0">
            <a:noFill/>
          </a:ln>
        </p:spPr>
      </p:pic>
      <p:grpSp>
        <p:nvGrpSpPr>
          <p:cNvPr id="248" name=""/>
          <p:cNvGrpSpPr/>
          <p:nvPr/>
        </p:nvGrpSpPr>
        <p:grpSpPr>
          <a:xfrm>
            <a:off x="5477040" y="1301760"/>
            <a:ext cx="134640" cy="838080"/>
            <a:chOff x="5477040" y="1301760"/>
            <a:chExt cx="134640" cy="838080"/>
          </a:xfrm>
        </p:grpSpPr>
        <p:sp>
          <p:nvSpPr>
            <p:cNvPr id="249" name=""/>
            <p:cNvSpPr/>
            <p:nvPr/>
          </p:nvSpPr>
          <p:spPr>
            <a:xfrm>
              <a:off x="5514840" y="1433520"/>
              <a:ext cx="57240" cy="706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477040" y="1301760"/>
              <a:ext cx="134640" cy="136440"/>
            </a:xfrm>
            <a:custGeom>
              <a:avLst/>
              <a:gdLst/>
              <a:ahLst/>
              <a:rect l="l" t="t" r="r" b="b"/>
              <a:pathLst>
                <a:path w="85" h="86">
                  <a:moveTo>
                    <a:pt x="85" y="86"/>
                  </a:moveTo>
                  <a:lnTo>
                    <a:pt x="42" y="0"/>
                  </a:lnTo>
                  <a:lnTo>
                    <a:pt x="0" y="86"/>
                  </a:lnTo>
                  <a:lnTo>
                    <a:pt x="85" y="8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4857840" y="768240"/>
            <a:ext cx="1373040" cy="534960"/>
          </a:xfrm>
          <a:prstGeom prst="rect">
            <a:avLst/>
          </a:prstGeom>
          <a:solidFill>
            <a:srgbClr val="ffcc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379840" y="912960"/>
            <a:ext cx="419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o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315040" y="1682640"/>
            <a:ext cx="534960" cy="230400"/>
          </a:xfrm>
          <a:prstGeom prst="rect">
            <a:avLst/>
          </a:prstGeom>
          <a:solidFill>
            <a:srgbClr val="00cc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506560" y="1703520"/>
            <a:ext cx="218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6280200" y="2657520"/>
            <a:ext cx="1143000" cy="135000"/>
            <a:chOff x="6280200" y="2657520"/>
            <a:chExt cx="1143000" cy="135000"/>
          </a:xfrm>
        </p:grpSpPr>
        <p:sp>
          <p:nvSpPr>
            <p:cNvPr id="256" name=""/>
            <p:cNvSpPr/>
            <p:nvPr/>
          </p:nvSpPr>
          <p:spPr>
            <a:xfrm>
              <a:off x="6280200" y="2695680"/>
              <a:ext cx="101124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288200" y="2657520"/>
              <a:ext cx="135000" cy="135000"/>
            </a:xfrm>
            <a:custGeom>
              <a:avLst/>
              <a:gdLst/>
              <a:ahLst/>
              <a:rect l="l" t="t" r="r" b="b"/>
              <a:pathLst>
                <a:path w="85" h="85">
                  <a:moveTo>
                    <a:pt x="0" y="85"/>
                  </a:moveTo>
                  <a:lnTo>
                    <a:pt x="85" y="42"/>
                  </a:lnTo>
                  <a:lnTo>
                    <a:pt x="0" y="0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8" name=""/>
          <p:cNvSpPr/>
          <p:nvPr/>
        </p:nvSpPr>
        <p:spPr>
          <a:xfrm>
            <a:off x="7423200" y="2114640"/>
            <a:ext cx="1373040" cy="1373040"/>
          </a:xfrm>
          <a:prstGeom prst="rect">
            <a:avLst/>
          </a:prstGeom>
          <a:solidFill>
            <a:srgbClr val="cc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737840" y="2541600"/>
            <a:ext cx="834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id f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779600" y="2816280"/>
            <a:ext cx="752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ring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85120" y="2571840"/>
            <a:ext cx="534960" cy="230040"/>
          </a:xfrm>
          <a:prstGeom prst="rect">
            <a:avLst/>
          </a:prstGeom>
          <a:solidFill>
            <a:srgbClr val="00cc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746760" y="2592360"/>
            <a:ext cx="277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3"/>
          <a:stretch/>
        </p:blipFill>
        <p:spPr>
          <a:xfrm>
            <a:off x="7416720" y="762120"/>
            <a:ext cx="1397160" cy="14223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4"/>
          <a:stretch/>
        </p:blipFill>
        <p:spPr>
          <a:xfrm>
            <a:off x="7442280" y="3456000"/>
            <a:ext cx="1396800" cy="142092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2895480" y="3733920"/>
            <a:ext cx="4572000" cy="1981080"/>
          </a:xfrm>
          <a:prstGeom prst="rect">
            <a:avLst/>
          </a:prstGeom>
          <a:solidFill>
            <a:srgbClr val="ed253d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Valid for duty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oesn’t violate max duty ti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oesn’t violate max idle ti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oesn’t violate max flying ti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514600" y="914400"/>
            <a:ext cx="601992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04920" y="3657600"/>
            <a:ext cx="3429000" cy="2895480"/>
          </a:xfrm>
          <a:prstGeom prst="rect">
            <a:avLst/>
          </a:prstGeom>
          <a:solidFill>
            <a:srgbClr val="ed253d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 label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pdate duty ti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pdate flying ti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pdate duty cos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pdate pairing red. cos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pdate pairing TAF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pdate sum of duty cos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438280" y="762120"/>
            <a:ext cx="60962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419720" y="5105520"/>
            <a:ext cx="4724280" cy="1447560"/>
          </a:xfrm>
          <a:prstGeom prst="rect">
            <a:avLst/>
          </a:prstGeom>
          <a:solidFill>
            <a:srgbClr val="ed253d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Valid for pairing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oesn’t violate number of dut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oesn’t violate min layov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oesn’t violate max TAF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438280" y="838080"/>
            <a:ext cx="624852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362320" y="838080"/>
            <a:ext cx="609588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E163-B67C-487B-8FBD-ADA2992A2B11}" type="slidenum">
              <a:t>4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300C44-3ECB-4C24-8799-17C70A24BF0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1136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olumn Generation and Network Structur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lvl="1" marL="609120" indent="-2343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uty assignment networ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890280" indent="-18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arge number of arc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3" marL="1171440" indent="-18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ne arc per dut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171440" indent="-18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an be hundreds of connections per dut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171440" indent="-18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Ex: 363 flights, 7838 duties, 1.65 M connection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890280" indent="-18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ewer labels per path - duty rules are built i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09120" indent="-2343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light assignment networ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890280" indent="-18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maller number of arc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3" marL="1171440" indent="-18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ne arc per fligh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171440" indent="-18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ypically not more than 30 connections per fligh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890280" indent="-18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arger number of labe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890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4F4E-A53C-48F2-8728-87E21BD17BB8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453C57-2A1D-4AE9-9040-D3F572B8BA7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The Crew Scheduling Problem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ssign crews to cover all flights for a given fleet typ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inimize co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ime paid for fly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enalty” pa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de constrain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alanc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obustnes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03DF-7107-45D5-8673-E4DCF1C4537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9C29B1-C349-4C28-9B2D-D718FC3FFCA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Branch-and-Bound Review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5" name=""/>
          <p:cNvSpPr/>
          <p:nvPr/>
        </p:nvSpPr>
        <p:spPr>
          <a:xfrm>
            <a:off x="4049640" y="1066680"/>
            <a:ext cx="762120" cy="762120"/>
          </a:xfrm>
          <a:prstGeom prst="rect">
            <a:avLst/>
          </a:prstGeom>
          <a:solidFill>
            <a:srgbClr val="99cc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imes New Roman"/>
              </a:rPr>
              <a:t>Roo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imes New Roman"/>
              </a:rPr>
              <a:t>no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2819520" y="1371600"/>
            <a:ext cx="3190680" cy="96984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2"/>
          <a:stretch/>
        </p:blipFill>
        <p:spPr>
          <a:xfrm>
            <a:off x="2514600" y="2362320"/>
            <a:ext cx="865080" cy="80316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3"/>
          <a:stretch/>
        </p:blipFill>
        <p:spPr>
          <a:xfrm>
            <a:off x="5562720" y="2362320"/>
            <a:ext cx="803160" cy="80316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4"/>
          <a:stretch/>
        </p:blipFill>
        <p:spPr>
          <a:xfrm>
            <a:off x="4343400" y="2916360"/>
            <a:ext cx="3144960" cy="96984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5"/>
          <a:stretch/>
        </p:blipFill>
        <p:spPr>
          <a:xfrm>
            <a:off x="4073400" y="4038480"/>
            <a:ext cx="803520" cy="80352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6"/>
          <a:stretch/>
        </p:blipFill>
        <p:spPr>
          <a:xfrm>
            <a:off x="7121520" y="4038480"/>
            <a:ext cx="803160" cy="80352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7"/>
          <a:stretch/>
        </p:blipFill>
        <p:spPr>
          <a:xfrm>
            <a:off x="2860560" y="4668840"/>
            <a:ext cx="3159360" cy="96984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8"/>
          <a:stretch/>
        </p:blipFill>
        <p:spPr>
          <a:xfrm>
            <a:off x="5673600" y="5749920"/>
            <a:ext cx="803520" cy="80316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9"/>
          <a:stretch/>
        </p:blipFill>
        <p:spPr>
          <a:xfrm>
            <a:off x="2133720" y="5749920"/>
            <a:ext cx="1655640" cy="80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7FEB-4D56-4156-A2D7-14F4487D6715}" type="slidenum">
              <a:t>5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F4A9CF-FDB4-4342-8A67-1B06708B7F7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Heuristic Solution Approach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ranch-and-bound with only root node LP solved using column generatio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o feasible solution may exist in the columns generated to solve the root node LP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ventional wisdom:  need some “bad” columns to get a “good” solu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7D6B-4134-48F2-B5CB-889E8DF2AF86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E5460A-6C9E-4487-B584-FD41224DE13B}" type="datetime1">
              <a:rPr lang="en-US"/>
              <a:t>07/29/26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aramond"/>
              </a:rPr>
              <a:t>Branch-and-Price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eed a branching rule that is compatible with column gener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ule must be enforceable without changing the structure of the pricing proble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53000" indent="-2214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ulti-label shortest path problem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ranching based on variable dichotomy is not compatibl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53000" indent="-2214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annot restrict the shortest path algorithm from finding a path (that is, a pairing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4AF2-4ED2-4D79-BC88-37EA638A5617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832265-0B88-416A-AFDB-64307F4EAFA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Variable Dichotomy Branching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Given a fractional solution to the crew pairing problem, pick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s.t.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0 &lt; x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&lt; 1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74320" indent="-27432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Two new problems: {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= 1, x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= 0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74320" indent="-27432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rawbacks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59436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mbal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59436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ximum depth of tre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59436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nforcing in the pricing problem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868320" indent="-182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= 1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is eas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868320" indent="-182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= 0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is har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07B7-952F-4B9F-AA12-B24474824028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01AAFC-B328-467B-B734-5AC158F5A36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Branching on Follow-On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Given a fractional solution, there must be two flights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f1, f2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such that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f1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is followed by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f2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 fractional amount in the solutio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59436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iring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f1-f2-f3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has value 1/2 and pairing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-f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has value 1/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74320" indent="-27432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ranch on {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 is/is not followed by f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59436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ore balanc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59436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ewer branching level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59436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to enforce in pricing proble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71B0-3E7A-450E-9E2E-0C1912DEF339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C03446-6AAB-49D1-803F-1583F984AE8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How to Alter Network to Enforce Branching Decis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f follow-on flights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-b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quir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move all connection arcs from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a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o flights other than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move all connection arcs into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b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rom flights other than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f follow-on flights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-b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allow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move all connection arcs from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a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o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FCAF-BB97-4F80-8D9D-A80EF464AEB4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936432-D516-4AF4-9DDF-38491B0971D2}" type="datetime1">
              <a:rPr lang="en-US"/>
              <a:t>07/29/26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How to Select Flight Pairs for Branching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um current LP solution values of all possible flight follow-on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ranch on the follow-on with the greatest valu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50D4-7C78-4F8B-9042-50E2FA953D19}" type="slidenum">
              <a:t>5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736CD8-E29C-4730-9A74-6AF651EB6F0F}" type="datetime1">
              <a:rPr lang="en-US"/>
              <a:t>07/29/2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omputational Result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merican Airlines (1993)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25,000+ crew member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Save $20+ million/year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Solutions in 4 - 10 hour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956E-0042-4D9A-B6CB-C2A663FAA583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4AB0B4-3295-4A25-8E05-AA7569D64DE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Other Crew Scheduling Research Topic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abin crew scheduling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Integrating pairing and assignment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Robust planning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Recovery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Integrated model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2F46-68B3-4AF0-8624-0DD6D85EBDFE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AE38DB-211F-4257-9A2D-9F38A929FA1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Network Flow Problem?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09480" y="1447920"/>
            <a:ext cx="8031240" cy="43732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973080" y="1430280"/>
            <a:ext cx="7180200" cy="43610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362320" y="2438280"/>
            <a:ext cx="4495680" cy="2971800"/>
          </a:xfrm>
          <a:prstGeom prst="rect">
            <a:avLst/>
          </a:prstGeom>
          <a:solidFill>
            <a:srgbClr val="ed253d"/>
          </a:solidFill>
          <a:ln w="1260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plex feasibility ru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n-linear objective fun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3C36-B4CC-41AB-8776-5B8E92E5F7EB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26707B-8ECA-4FC6-969A-CDB532DF5DE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Building Block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798640" y="1828800"/>
            <a:ext cx="1849680" cy="33512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7340760" y="2058840"/>
            <a:ext cx="1706400" cy="3122640"/>
          </a:xfrm>
          <a:prstGeom prst="rect">
            <a:avLst/>
          </a:prstGeom>
          <a:ln w="0">
            <a:noFill/>
          </a:ln>
        </p:spPr>
      </p:pic>
      <p:grpSp>
        <p:nvGrpSpPr>
          <p:cNvPr id="67" name=""/>
          <p:cNvGrpSpPr/>
          <p:nvPr/>
        </p:nvGrpSpPr>
        <p:grpSpPr>
          <a:xfrm>
            <a:off x="365400" y="2133720"/>
            <a:ext cx="2247480" cy="3062160"/>
            <a:chOff x="365400" y="2133720"/>
            <a:chExt cx="2247480" cy="3062160"/>
          </a:xfrm>
        </p:grpSpPr>
        <p:grpSp>
          <p:nvGrpSpPr>
            <p:cNvPr id="68" name=""/>
            <p:cNvGrpSpPr/>
            <p:nvPr/>
          </p:nvGrpSpPr>
          <p:grpSpPr>
            <a:xfrm>
              <a:off x="365400" y="2133720"/>
              <a:ext cx="1485720" cy="3062160"/>
              <a:chOff x="365400" y="2133720"/>
              <a:chExt cx="1485720" cy="3062160"/>
            </a:xfrm>
          </p:grpSpPr>
          <p:grpSp>
            <p:nvGrpSpPr>
              <p:cNvPr id="69" name=""/>
              <p:cNvGrpSpPr/>
              <p:nvPr/>
            </p:nvGrpSpPr>
            <p:grpSpPr>
              <a:xfrm>
                <a:off x="461880" y="2133720"/>
                <a:ext cx="1389240" cy="1295280"/>
                <a:chOff x="461880" y="2133720"/>
                <a:chExt cx="1389240" cy="1295280"/>
              </a:xfrm>
            </p:grpSpPr>
            <p:sp>
              <p:nvSpPr>
                <p:cNvPr id="70" name=""/>
                <p:cNvSpPr/>
                <p:nvPr/>
              </p:nvSpPr>
              <p:spPr>
                <a:xfrm>
                  <a:off x="517680" y="2828880"/>
                  <a:ext cx="1212840" cy="52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1" name=""/>
                <p:cNvGrpSpPr/>
                <p:nvPr/>
              </p:nvGrpSpPr>
              <p:grpSpPr>
                <a:xfrm>
                  <a:off x="461880" y="2133720"/>
                  <a:ext cx="1389240" cy="1295280"/>
                  <a:chOff x="461880" y="2133720"/>
                  <a:chExt cx="1389240" cy="1295280"/>
                </a:xfrm>
              </p:grpSpPr>
              <p:sp>
                <p:nvSpPr>
                  <p:cNvPr id="72" name=""/>
                  <p:cNvSpPr/>
                  <p:nvPr/>
                </p:nvSpPr>
                <p:spPr>
                  <a:xfrm>
                    <a:off x="936720" y="2286000"/>
                    <a:ext cx="304560" cy="76320"/>
                  </a:xfrm>
                  <a:prstGeom prst="ellipse">
                    <a:avLst/>
                  </a:prstGeom>
                  <a:solidFill>
                    <a:srgbClr val="00ccff"/>
                  </a:solidFill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>
                    <a:off x="936720" y="2438280"/>
                    <a:ext cx="304560" cy="76320"/>
                  </a:xfrm>
                  <a:prstGeom prst="ellipse">
                    <a:avLst/>
                  </a:prstGeom>
                  <a:solidFill>
                    <a:srgbClr val="00ccff"/>
                  </a:solidFill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>
                    <a:off x="936720" y="3048120"/>
                    <a:ext cx="304560" cy="75960"/>
                  </a:xfrm>
                  <a:prstGeom prst="ellipse">
                    <a:avLst/>
                  </a:prstGeom>
                  <a:solidFill>
                    <a:srgbClr val="00ccff"/>
                  </a:solidFill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936720" y="3200400"/>
                    <a:ext cx="304560" cy="76320"/>
                  </a:xfrm>
                  <a:prstGeom prst="ellipse">
                    <a:avLst/>
                  </a:prstGeom>
                  <a:solidFill>
                    <a:srgbClr val="00ccff"/>
                  </a:solidFill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>
                    <a:off x="479520" y="2666880"/>
                    <a:ext cx="1371600" cy="228600"/>
                  </a:xfrm>
                  <a:custGeom>
                    <a:avLst/>
                    <a:gdLst>
                      <a:gd name="textAreaLeft" fmla="*/ 0 w 1371600"/>
                      <a:gd name="textAreaRight" fmla="*/ 1371960 w 1371600"/>
                      <a:gd name="textAreaTop" fmla="*/ 0 h 228600"/>
                      <a:gd name="textAreaBottom" fmla="*/ 228960 h 2286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6200" y="0"/>
                        </a:lnTo>
                        <a:lnTo>
                          <a:pt x="21600" y="10800"/>
                        </a:lnTo>
                        <a:lnTo>
                          <a:pt x="16200" y="21600"/>
                        </a:lnTo>
                        <a:lnTo>
                          <a:pt x="0" y="21600"/>
                        </a:lnTo>
                        <a:lnTo>
                          <a:pt x="5400" y="10800"/>
                        </a:lnTo>
                        <a:close/>
                      </a:path>
                    </a:pathLst>
                  </a:custGeom>
                  <a:solidFill>
                    <a:srgbClr val="cc99ff"/>
                  </a:solidFill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>
                    <a:off x="1012680" y="2133720"/>
                    <a:ext cx="152640" cy="533160"/>
                  </a:xfrm>
                  <a:prstGeom prst="rect">
                    <a:avLst/>
                  </a:prstGeom>
                  <a:solidFill>
                    <a:srgbClr val="cc99ff"/>
                  </a:solidFill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"/>
                  <p:cNvSpPr/>
                  <p:nvPr/>
                </p:nvSpPr>
                <p:spPr>
                  <a:xfrm>
                    <a:off x="1012680" y="2895480"/>
                    <a:ext cx="152640" cy="533520"/>
                  </a:xfrm>
                  <a:prstGeom prst="rect">
                    <a:avLst/>
                  </a:prstGeom>
                  <a:solidFill>
                    <a:srgbClr val="cc99ff"/>
                  </a:solidFill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>
                    <a:off x="555480" y="2438280"/>
                    <a:ext cx="152640" cy="228600"/>
                  </a:xfrm>
                  <a:prstGeom prst="rtTriangle">
                    <a:avLst/>
                  </a:prstGeom>
                  <a:solidFill>
                    <a:srgbClr val="cc99ff"/>
                  </a:solidFill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 flipV="1">
                    <a:off x="555480" y="2894760"/>
                    <a:ext cx="152640" cy="228600"/>
                  </a:xfrm>
                  <a:prstGeom prst="rtTriangle">
                    <a:avLst/>
                  </a:prstGeom>
                  <a:solidFill>
                    <a:srgbClr val="cc99ff"/>
                  </a:solidFill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"/>
                  <p:cNvSpPr/>
                  <p:nvPr/>
                </p:nvSpPr>
                <p:spPr>
                  <a:xfrm flipH="1">
                    <a:off x="461880" y="2692440"/>
                    <a:ext cx="372960" cy="166680"/>
                  </a:xfrm>
                  <a:custGeom>
                    <a:avLst/>
                    <a:gdLst>
                      <a:gd name="textAreaLeft" fmla="*/ 360 w 372960"/>
                      <a:gd name="textAreaRight" fmla="*/ 373680 w 372960"/>
                      <a:gd name="textAreaTop" fmla="*/ 0 h 166680"/>
                      <a:gd name="textAreaBottom" fmla="*/ 166680 h 1666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6200" y="0"/>
                        </a:lnTo>
                        <a:lnTo>
                          <a:pt x="21600" y="10800"/>
                        </a:lnTo>
                        <a:lnTo>
                          <a:pt x="16200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cc99ff"/>
                  </a:solidFill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82" name=""/>
              <p:cNvSpPr/>
              <p:nvPr/>
            </p:nvSpPr>
            <p:spPr>
              <a:xfrm>
                <a:off x="365400" y="4675320"/>
                <a:ext cx="1032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Times New Roman"/>
                  </a:rPr>
                  <a:t>Flight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1816200" y="4842000"/>
              <a:ext cx="590400" cy="134640"/>
            </a:xfrm>
            <a:prstGeom prst="rightArrow">
              <a:avLst>
                <a:gd name="adj1" fmla="val 50000"/>
                <a:gd name="adj2" fmla="val 109626"/>
              </a:avLst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022480" y="2720880"/>
              <a:ext cx="590400" cy="135000"/>
            </a:xfrm>
            <a:prstGeom prst="rightArrow">
              <a:avLst>
                <a:gd name="adj1" fmla="val 50000"/>
                <a:gd name="adj2" fmla="val 109333"/>
              </a:avLst>
            </a:prstGeom>
            <a:solidFill>
              <a:srgbClr val="ff0000"/>
            </a:solidFill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4699080" y="2200320"/>
            <a:ext cx="2679480" cy="2936520"/>
            <a:chOff x="4699080" y="2200320"/>
            <a:chExt cx="2679480" cy="2936520"/>
          </a:xfrm>
        </p:grpSpPr>
        <p:sp>
          <p:nvSpPr>
            <p:cNvPr id="86" name=""/>
            <p:cNvSpPr/>
            <p:nvPr/>
          </p:nvSpPr>
          <p:spPr>
            <a:xfrm>
              <a:off x="5230080" y="4616280"/>
              <a:ext cx="120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Pairing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788160" y="4822920"/>
              <a:ext cx="590400" cy="135000"/>
            </a:xfrm>
            <a:prstGeom prst="rightArrow">
              <a:avLst>
                <a:gd name="adj1" fmla="val 50000"/>
                <a:gd name="adj2" fmla="val 109333"/>
              </a:avLst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697800" y="2647800"/>
              <a:ext cx="590400" cy="135000"/>
            </a:xfrm>
            <a:prstGeom prst="rightArrow">
              <a:avLst>
                <a:gd name="adj1" fmla="val 50000"/>
                <a:gd name="adj2" fmla="val 109333"/>
              </a:avLst>
            </a:prstGeom>
            <a:solidFill>
              <a:srgbClr val="ff0000"/>
            </a:solidFill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89" name="" descr=""/>
            <p:cNvPicPr/>
            <p:nvPr/>
          </p:nvPicPr>
          <p:blipFill>
            <a:blip r:embed="rId3"/>
            <a:stretch/>
          </p:blipFill>
          <p:spPr>
            <a:xfrm>
              <a:off x="4699080" y="2200320"/>
              <a:ext cx="1927080" cy="1090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4391-2F4B-4330-9593-6A8288312910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C5A114-9B3C-4B61-9F61-D5B4533991B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Duty Period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ition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duty period is a day-long sequence of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consecutive flights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at can be assigned to a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single crew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 to be followed by a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period of re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B67A-C541-434F-A682-3EEDB5476D2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F8835F-8AD9-4C1C-9E2C-D965E216E12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Duty Rule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ule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lights are sequential in space/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ximum flying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inimum idle/sit/connec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ximum idle/sit/connec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ximum duty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4C1E-2C02-4F03-85C7-A5F7B4D8A6E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1AB2C3-E069-4A19-B9AD-4107019AF6F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4T03:11:32Z</dcterms:created>
  <dc:creator>Andrew P. Armacost</dc:creator>
  <dc:description/>
  <dc:language>en-US</dc:language>
  <cp:lastModifiedBy>CEE</cp:lastModifiedBy>
  <cp:lastPrinted>2000-05-28T17:01:40Z</cp:lastPrinted>
  <dcterms:modified xsi:type="dcterms:W3CDTF">2004-01-16T16:12:55Z</dcterms:modified>
  <cp:revision>493</cp:revision>
  <dc:subject/>
  <dc:title>Thesis Proposal Meeting</dc:title>
</cp:coreProperties>
</file>