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50E-796F-469B-AAB6-A28D20C7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CFB-CF46-4F98-A85B-E6C178FB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D91-8926-49A7-B606-369BCD64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100-76EA-4CAB-A4ED-2000AE27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13B-F7FE-42B7-A803-1FD35399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FFC-1FB9-403E-BFD2-2ABB6B4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949-A508-472B-9D4A-D0472B78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EE6-0748-4131-AE7F-94A03B61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3DE-914F-40DC-98B3-495FBF0B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074-646F-40AC-9A46-1306222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BCF-64D0-4534-A38D-A290ACF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C34-99F4-47C1-B2FF-EABAA5BE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022-C2C6-4509-9E0F-012182A4130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333E-1C9B-4A1B-96C4-D613BB0B40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:  Defin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3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QSI for each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each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irlin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 a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airlin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equal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all market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49B-58BB-43DF-8A9E-F9F190684F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37DC4-A3BF-49A2-96C6-E3268D5A0A77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the competitors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1 –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is 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DA5-B53A-4570-AA39-D70D12DE72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546AA-9E57-42D9-9F1B-CC6802F4C6AF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passenger who desires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is redirected (spilled) to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assenger has the choice of accep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not (going to a competi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ability that passenger will accep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given an uniform distribution) is the ratio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ability that passenger wil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given an uniform distribution) is the ratio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tios sum to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 monopoly, recapture rate will equal 1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19B-D707-4A04-9736-E9968A52EA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62D4D-50F5-435F-80CB-64911820C05A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Calc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 rates for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probability that a passenger spilled from I will accept a seat on J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one ex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SI mechanism for computing recapture r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0760" y="4222800"/>
                <a:ext cx="3619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AE7-E4A2-46BD-B384-0A87ADEB95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5ABFE-04A5-4A05-A696-15142AF2C0F9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Recap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5619600"/>
            <a:ext cx="53352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5619600"/>
            <a:ext cx="53316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25780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2560" y="5605560"/>
            <a:ext cx="2560680" cy="25056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5929200"/>
            <a:ext cx="2573280" cy="23508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497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3080" y="53150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3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6960" y="57722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8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apture ra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all itineraries have a single fare class, and their fares are all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I to J, Spill _____ from I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J to I, Spill _____ from J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K to I, Spill _____ from K to 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81480" y="36576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4114800"/>
            <a:ext cx="533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0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4114800"/>
            <a:ext cx="4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814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857-EEB6-4A00-8674-00E3C8154D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98328-D507-4D45-9918-30E8CD5961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thematical Model: 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e number of passengers that desire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n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verage fare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aily unconstrained demand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apacity on flight leg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capture rate of a passenger desiring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ho is offered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22360" y="5543640"/>
                <a:ext cx="609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flight leg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on itinerary 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8680" y="2286000"/>
                <a:ext cx="285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30240" y="3772080"/>
                <a:ext cx="782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114800"/>
                <a:ext cx="609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4457880"/>
                <a:ext cx="8128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4743360"/>
                <a:ext cx="260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197-01C3-461F-A6D6-5C21F27C52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668C6-3294-450B-B05A-313A3E9FB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asi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6880" y="1314360"/>
                <a:ext cx="849024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imize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ar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</m:t>
                          </m:r>
                        </m:e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F6A-864D-4F6A-B5EF-AF9C337416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788B2-D272-441F-9A62-DBD711E997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1D7-2B2E-4263-A28F-94580C3A92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0BD4-9047-4A85-9EF0-F4A907BE10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BBB-56E1-46AA-8069-AD15D4E11C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D6972-AF80-4DB5-ACEE-0083E9E71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59480" cy="4800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149-BFD8-4A48-B064-40A9D52990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01A18-8E0E-4021-9FBC-91136706FA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ssenger Mix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 and Exten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70C-58CB-4FCB-BCB2-DFD52236EE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65BC0-AC62-4F85-B0F6-F180DF84C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E62-72D2-4717-AD93-B9DB0DD61E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CECFB-404C-4F7C-8D42-E4BD3CEFF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most passengers flow along their desired 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which passengers the airline would like to redirect on other itine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ecision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number of passengers who desire travel on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but the airline attempts to redirect onto the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unconstrained demand on flight leg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03160" y="4191120"/>
                <a:ext cx="728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24000" y="53276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87520" y="5886360"/>
                <a:ext cx="2995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34B-B14D-4B64-9356-F1AFD95174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D293A-CE67-4298-A66B-69FD41368D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428840"/>
                <a:ext cx="7619760" cy="33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  <m:sup>
                                          <m:r>
                                            <m:t xml:space="preserve">r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e>
                                  </m:d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5562720"/>
                <a:ext cx="16732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¹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875120" y="4952880"/>
            <a:ext cx="266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952880"/>
            <a:ext cx="342900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E68-27D1-42D6-9122-B51EEFFA7B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34A1B-F5AB-42E5-9394-9A8F8BAC9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642-0F72-4095-A704-B411B752CD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782AE-6C8A-4E07-8568-AC7AA09DBE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0A2-EE90-4AE4-B7B1-56A82FEC90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50E68-7813-4085-B053-E370F6541E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number of itineraries in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m aren’t going to be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columns by explicit enumeration and “pricing out”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5FA-B9C4-43F4-8551-237C70F132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762D9-5AED-45BB-A6BE-6C5A8BAE99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ing Reduc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duced cost of a column i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    is the non-negative dual cost associated with flight le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      is the non-negative dual cost associated with itiner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87280" y="2400480"/>
                <a:ext cx="6770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r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33720" y="33526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67280" y="3962520"/>
                <a:ext cx="609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A5B-F914-421E-A2BE-3F8B2EC212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0CE2D-4E3F-4780-B089-9366C2EDCD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ving the Pricing Problem (Column Generation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he column generation step be accomplished by solving shortest paths on a network with “modified” arc costs, or some other polynomial time algorith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nt:  Think about far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mplications of the answer to this ques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7E6-0782-40B1-BD30-D322DFA259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67A9B-47A2-4615-9480-4763B4009CA0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United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Markets -15,67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Itineraries - 60,2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legs in an itinerary-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itineraries in a market- 6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network (# of flights)-  2,03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PLEX, we solved the above problem in roughly 100 seconds, generating just over 100,000 columns and 4,100+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366-3EDD-49DA-A651-1C09847C41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625A9-9D79-491F-AD3B-3ECD56C07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s:  Irregular Opera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flights are cancelled or delay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itineraries are cance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reassignments to alternative itineraries necess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ight schedule and fleet assignments (capacity) are kn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jective might be to minimize total delays or to minimize the maximum delay beyond schedu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re recapture rates affected by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the passenger-mix model have to be altered for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8FD-21D8-4B02-8C1C-8BDD54495E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862A2-4B5B-4448-895E-8F22CF020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Basic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origin-destination airport pair, between which passengers wish to fly one-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-ORD and ORD-BOS are differ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c sequence of flight legs on which a passenger travels from their ultimate origin to their ultimate dest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t prices for the same travel service, usually distinguished from one another by the set of restrictions imposed by the air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C95-F1E3-4701-85A3-EB40BF483D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6091B-5FE1-47C3-98E6-AA095052F4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 Yield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passenger mix problem be used as a tool for yield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ssu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vs. stochas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uence of requ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mall demands (i.e., quality of da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ws the expected makeup of seat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s into account the probability of recapturing spilled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ideas of itineraries that should be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ual prices might give us ideas for contributions, or displacement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57F-FC40-483D-B6AC-9D5FA15030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5A6A2-F140-4F97-BEF4-5F30922E76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Fleet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explained in the next lecture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884-D4FC-4D9B-A342-1D6118A289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6861D-C89F-424C-8464-43472FB6CD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More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denied booking due to capacity restri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recaptured back to the airline after being spilled from another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84A-7DD0-485D-9F7A-B0A668300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8E8CA-1CF2-49F1-BB6A-F241F37CE4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constrained demand for all itineraries over the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ize revenues by intelligently spilling passengers that are either low fare or will most likely fly another itinerary (reca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quivalent to minimize the total spill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C52-610B-4EEC-ACCB-7211375740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CC02E-4170-4B4E-BEEC-05CE8B9CFA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105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13480" y="5105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6240" y="47433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2560" y="50911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2560" y="54151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1160" y="4362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760" y="474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2040" y="5200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onstrained demand per itine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demand for an itinerary when the number of seats is unlimi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F6D-6196-490C-A31B-B29F3180EF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45A8E-368E-4234-845A-41B1F64D94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Capacity Constra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462276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684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960" y="42861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6280" y="46339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49579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3886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46483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8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I = 1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J = 17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K = 1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90920" y="41148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90920" y="50292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457200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D7D-7A15-4ECA-864B-AF7CF1909C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6BC23-C6B2-4D57-AFAE-CB42E27B02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enue Management:  A Quick Loo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are clas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: High fare, no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: Low fare, many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for Flight 1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 class: 95 with an average fare of $4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class:  225 with an average fare of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Spill Solution (     Y and      M passenge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nue:  $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ll: 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87692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86400" y="487692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5334120"/>
            <a:ext cx="2133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5*400 + 192*10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867280"/>
            <a:ext cx="91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*100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05D-3FF2-4997-9756-6BDD16A356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9E6CC-02FF-478B-9E1D-85BC702F09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Revenue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201, ORD-SFO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(one fare cla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225 passengers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150 passengers $1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150 passengers, $2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 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         passeng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14800" y="44006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*100+150*150+137*225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4705200"/>
            <a:ext cx="533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71800" y="51624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71800" y="56196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7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0E8-8A06-4CC0-8835-FE6934DD3C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D9A3C-6968-4A7E-83F5-623F32A1FD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4:55Z</dcterms:modified>
  <cp:revision>413</cp:revision>
  <dc:subject/>
  <dc:title>Thesis Proposal Meeting</dc:title>
</cp:coreProperties>
</file>