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D6C4E5-3A52-4119-83E6-B29022B1D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 TO DO:  Next time do algorithm on its own slide– see Amy’s topo ordering slide from textbook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CFDE45-651B-4400-9DB6-FF4CF2F0F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3CF15F-DBBE-496E-9A9E-D1EBB9F30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37B-6B19-4575-8AB7-A9EA20F6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852-8B3A-4980-A334-F4102BDA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D96-9E95-4AFB-B7F0-A2C0C059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96F-FFDF-40E3-8F21-49CC6B1B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E58-E996-475D-9E5A-34D939B7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B7D-5416-4BFB-98B5-66054450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444-17A2-4B47-8D32-A65A96C5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3E7-32FC-4885-88C3-75F02B3B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A15-D5C8-4D2E-BD60-4407B4EF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8E1-E428-4066-87BA-527C51AA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B20-C26C-4713-A946-1D0CA462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A0E-CEB3-4DE1-923F-3BA60F0B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136C-87BC-4937-9F47-764260FF76F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356A-D1B6-4BF8-A289-C0D07F0B4F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514600"/>
            <a:ext cx="807732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52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601640" y="3133800"/>
            <a:ext cx="2132280" cy="6660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540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543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546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549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552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555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558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569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574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579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584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589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209680" y="3467160"/>
            <a:ext cx="3276360" cy="418680"/>
            <a:chOff x="2209680" y="3467160"/>
            <a:chExt cx="3276360" cy="418680"/>
          </a:xfrm>
        </p:grpSpPr>
        <p:sp>
          <p:nvSpPr>
            <p:cNvPr id="594" name=""/>
            <p:cNvSpPr/>
            <p:nvPr/>
          </p:nvSpPr>
          <p:spPr>
            <a:xfrm>
              <a:off x="2209680" y="38548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93920" y="383220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77800" y="3804120"/>
              <a:ext cx="59040" cy="280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62040" y="377712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44840" y="375444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33040" y="3728160"/>
              <a:ext cx="59040" cy="262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17280" y="370548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01520" y="368280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89360" y="365616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73600" y="3637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57840" y="361512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45680" y="3593880"/>
              <a:ext cx="6300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28840" y="35755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16680" y="355320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00920" y="353484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89120" y="3520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77320" y="350784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65160" y="349380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53360" y="3485160"/>
              <a:ext cx="59040" cy="180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37600" y="3471120"/>
              <a:ext cx="626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2544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14000" y="3467160"/>
              <a:ext cx="6264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01840" y="3467160"/>
              <a:ext cx="6300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8968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77880" y="3471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66080" y="3485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54280" y="3493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42120" y="3512160"/>
              <a:ext cx="59040" cy="2268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26720" y="353016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14560" y="355320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98800" y="3579840"/>
              <a:ext cx="57600" cy="262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81600" y="36064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65480" y="3637440"/>
              <a:ext cx="59040" cy="32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45760" y="3670200"/>
              <a:ext cx="63000" cy="3492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30000" y="370548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8840" y="3742200"/>
              <a:ext cx="5904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89120" y="377712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35200" y="3750480"/>
              <a:ext cx="150840" cy="13536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19520" y="4216320"/>
            <a:ext cx="3352320" cy="431640"/>
            <a:chOff x="2819520" y="4216320"/>
            <a:chExt cx="3352320" cy="431640"/>
          </a:xfrm>
        </p:grpSpPr>
        <p:sp>
          <p:nvSpPr>
            <p:cNvPr id="633" name=""/>
            <p:cNvSpPr/>
            <p:nvPr/>
          </p:nvSpPr>
          <p:spPr>
            <a:xfrm>
              <a:off x="2819520" y="4616280"/>
              <a:ext cx="6048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05560" y="459288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91960" y="4563720"/>
              <a:ext cx="59040" cy="2880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76560" y="4536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2600" y="451296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2600" y="448524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9000" y="446184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25040" y="44388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15040" y="44110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01440" y="439236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86040" y="436896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76400" y="4347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2440" y="432828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52440" y="430488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38840" y="428616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28840" y="4272840"/>
              <a:ext cx="644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19200" y="425844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09200" y="424368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99560" y="4235400"/>
              <a:ext cx="60480" cy="187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85960" y="42202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7596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66320" y="4216320"/>
              <a:ext cx="6408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56320" y="4216320"/>
              <a:ext cx="6444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4632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36680" y="422028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26680" y="423540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17040" y="42436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07040" y="4262760"/>
              <a:ext cx="59040" cy="234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93080" y="4281840"/>
              <a:ext cx="63360" cy="2736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82000" y="43048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8400" y="433260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54440" y="4360320"/>
              <a:ext cx="6012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0480" y="4392360"/>
              <a:ext cx="60480" cy="331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22560" y="4425480"/>
              <a:ext cx="63000" cy="360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07520" y="4461840"/>
              <a:ext cx="60120" cy="378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89600" y="4499640"/>
              <a:ext cx="60120" cy="360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71680" y="4536000"/>
              <a:ext cx="59040" cy="378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18480" y="4508640"/>
              <a:ext cx="153360" cy="13932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29000" y="4986360"/>
            <a:ext cx="3276720" cy="423360"/>
            <a:chOff x="3429000" y="4986360"/>
            <a:chExt cx="3276720" cy="423360"/>
          </a:xfrm>
        </p:grpSpPr>
        <p:sp>
          <p:nvSpPr>
            <p:cNvPr id="672" name=""/>
            <p:cNvSpPr/>
            <p:nvPr/>
          </p:nvSpPr>
          <p:spPr>
            <a:xfrm>
              <a:off x="3429000" y="5376960"/>
              <a:ext cx="59040" cy="327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13240" y="535428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96040" y="53272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80280" y="529992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64520" y="527724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52360" y="525024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6600" y="522720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20840" y="520452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09040" y="5177520"/>
              <a:ext cx="57600" cy="270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91840" y="5158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76080" y="5136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64280" y="511308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8520" y="5095800"/>
              <a:ext cx="626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36360" y="507312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20600" y="505476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08800" y="50403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96640" y="50277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85200" y="5013360"/>
              <a:ext cx="6300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73040" y="5004720"/>
              <a:ext cx="57600" cy="187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5764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45480" y="4986360"/>
              <a:ext cx="6156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33680" y="4986360"/>
              <a:ext cx="6192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21880" y="4986360"/>
              <a:ext cx="6156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09720" y="4986360"/>
              <a:ext cx="6192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9792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86120" y="5004720"/>
              <a:ext cx="61560" cy="187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74320" y="5013360"/>
              <a:ext cx="61560" cy="223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62520" y="5031720"/>
              <a:ext cx="57600" cy="2268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45320" y="505008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33160" y="507312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7760" y="51004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02000" y="5127480"/>
              <a:ext cx="59040" cy="31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85880" y="5158800"/>
              <a:ext cx="57600" cy="32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65080" y="5191560"/>
              <a:ext cx="62640" cy="352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48960" y="522720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29240" y="5264280"/>
              <a:ext cx="57600" cy="352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08080" y="529992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54520" y="5272920"/>
              <a:ext cx="151200" cy="13680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711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728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67280" y="3452760"/>
            <a:ext cx="2727000" cy="433080"/>
            <a:chOff x="5867280" y="3452760"/>
            <a:chExt cx="2727000" cy="433080"/>
          </a:xfrm>
        </p:grpSpPr>
        <p:sp>
          <p:nvSpPr>
            <p:cNvPr id="740" name=""/>
            <p:cNvSpPr/>
            <p:nvPr/>
          </p:nvSpPr>
          <p:spPr>
            <a:xfrm>
              <a:off x="5867280" y="38592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58000" y="38361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48720" y="38138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43760" y="3791160"/>
              <a:ext cx="6228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33400" y="376848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28800" y="37458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19520" y="372312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10600" y="37004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05640" y="368208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96720" y="3659400"/>
              <a:ext cx="68040" cy="280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91760" y="3636720"/>
              <a:ext cx="68040" cy="284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82840" y="3619440"/>
              <a:ext cx="6660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77880" y="3597120"/>
              <a:ext cx="66600" cy="266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7520" y="35787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62560" y="356004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53280" y="354168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48680" y="352476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43720" y="350640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34800" y="349236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9840" y="3479400"/>
              <a:ext cx="6804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724880" y="346536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20280" y="3456720"/>
              <a:ext cx="6804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1532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10720" y="3452760"/>
              <a:ext cx="68040" cy="126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0576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01160" y="346140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91880" y="347940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6920" y="3502080"/>
              <a:ext cx="62280" cy="3564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472240" y="3537720"/>
              <a:ext cx="63720" cy="4104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59000" y="3583080"/>
              <a:ext cx="35280" cy="30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477120" y="4114800"/>
            <a:ext cx="1904400" cy="515880"/>
            <a:chOff x="6477120" y="4114800"/>
            <a:chExt cx="1904400" cy="515880"/>
          </a:xfrm>
        </p:grpSpPr>
        <p:sp>
          <p:nvSpPr>
            <p:cNvPr id="771" name=""/>
            <p:cNvSpPr/>
            <p:nvPr/>
          </p:nvSpPr>
          <p:spPr>
            <a:xfrm>
              <a:off x="6477120" y="4589280"/>
              <a:ext cx="5580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51280" y="4549680"/>
              <a:ext cx="5580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30840" y="4513320"/>
              <a:ext cx="5580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6440" y="447336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5640" y="4438440"/>
              <a:ext cx="5436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60160" y="4397400"/>
              <a:ext cx="5940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39360" y="436248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18920" y="4325760"/>
              <a:ext cx="554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98120" y="4295520"/>
              <a:ext cx="5436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76240" y="426060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55440" y="423072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34640" y="4205160"/>
              <a:ext cx="5940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13840" y="4179960"/>
              <a:ext cx="5940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97000" y="4159080"/>
              <a:ext cx="554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76200" y="4138560"/>
              <a:ext cx="5940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59360" y="4128840"/>
              <a:ext cx="5940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42520" y="4119480"/>
              <a:ext cx="5904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25320" y="4114800"/>
              <a:ext cx="583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08480" y="4114800"/>
              <a:ext cx="5796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91280" y="411480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74440" y="411948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57600" y="4128840"/>
              <a:ext cx="5796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40760" y="413856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23560" y="414972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7010280" y="4930920"/>
            <a:ext cx="1584000" cy="555120"/>
            <a:chOff x="7010280" y="4930920"/>
            <a:chExt cx="1584000" cy="555120"/>
          </a:xfrm>
        </p:grpSpPr>
        <p:sp>
          <p:nvSpPr>
            <p:cNvPr id="796" name=""/>
            <p:cNvSpPr/>
            <p:nvPr/>
          </p:nvSpPr>
          <p:spPr>
            <a:xfrm>
              <a:off x="7010280" y="544356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92720" y="5398920"/>
              <a:ext cx="61560" cy="38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76240" y="535644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64080" y="5311800"/>
              <a:ext cx="60120" cy="3744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46520" y="52689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34360" y="522468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18240" y="518184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04640" y="5142240"/>
              <a:ext cx="61560" cy="392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88520" y="5104800"/>
              <a:ext cx="65520" cy="374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76360" y="50673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64200" y="5028120"/>
              <a:ext cx="60120" cy="3888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52040" y="4995360"/>
              <a:ext cx="60480" cy="324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38440" y="4968360"/>
              <a:ext cx="65880" cy="320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30600" y="4945680"/>
              <a:ext cx="61560" cy="273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1844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310240" y="4930920"/>
              <a:ext cx="65880" cy="1476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0240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494200" y="495288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582400" y="4973400"/>
              <a:ext cx="11880" cy="21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nd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"/>
          <p:cNvSpPr/>
          <p:nvPr/>
        </p:nvSpPr>
        <p:spPr>
          <a:xfrm>
            <a:off x="5257800" y="3124080"/>
            <a:ext cx="2131920" cy="6696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905120" y="3962520"/>
            <a:ext cx="309240" cy="186840"/>
            <a:chOff x="1905120" y="3962520"/>
            <a:chExt cx="309240" cy="186840"/>
          </a:xfrm>
        </p:grpSpPr>
        <p:sp>
          <p:nvSpPr>
            <p:cNvPr id="818" name=""/>
            <p:cNvSpPr/>
            <p:nvPr/>
          </p:nvSpPr>
          <p:spPr>
            <a:xfrm>
              <a:off x="1905120" y="3962520"/>
              <a:ext cx="45720" cy="61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65240" y="4048200"/>
              <a:ext cx="55440" cy="565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46240" y="4089240"/>
              <a:ext cx="71280" cy="41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52720" y="3967200"/>
              <a:ext cx="161640" cy="18216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600200" y="5029200"/>
            <a:ext cx="1447920" cy="304920"/>
            <a:chOff x="1600200" y="5029200"/>
            <a:chExt cx="1447920" cy="304920"/>
          </a:xfrm>
        </p:grpSpPr>
        <p:sp>
          <p:nvSpPr>
            <p:cNvPr id="823" name=""/>
            <p:cNvSpPr/>
            <p:nvPr/>
          </p:nvSpPr>
          <p:spPr>
            <a:xfrm>
              <a:off x="1600200" y="531144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37280" y="529488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74360" y="5274360"/>
              <a:ext cx="259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11800" y="525492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48160" y="5238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87040" y="5218920"/>
              <a:ext cx="259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4480" y="5202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61560" y="51861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00440" y="516672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37520" y="5153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74960" y="51368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13840" y="51213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0560" y="5108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9440" y="50914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26520" y="507852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65400" y="5068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04640" y="505872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43520" y="504864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82400" y="5042160"/>
              <a:ext cx="259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1948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58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9760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648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75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1424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53120" y="504216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592000" y="50486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30880" y="5061960"/>
              <a:ext cx="259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68320" y="50752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07200" y="5091480"/>
              <a:ext cx="255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44280" y="5111280"/>
              <a:ext cx="255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81000" y="513072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18080" y="5153040"/>
              <a:ext cx="259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53360" y="5176800"/>
              <a:ext cx="2772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90800" y="520236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25720" y="5229360"/>
              <a:ext cx="259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61000" y="525492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81520" y="5235480"/>
              <a:ext cx="6660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1371600" y="4343400"/>
            <a:ext cx="1143000" cy="304920"/>
            <a:chOff x="1371600" y="4343400"/>
            <a:chExt cx="1143000" cy="304920"/>
          </a:xfrm>
        </p:grpSpPr>
        <p:sp>
          <p:nvSpPr>
            <p:cNvPr id="862" name=""/>
            <p:cNvSpPr/>
            <p:nvPr/>
          </p:nvSpPr>
          <p:spPr>
            <a:xfrm>
              <a:off x="1371600" y="462564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400760" y="460908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30280" y="4588560"/>
              <a:ext cx="205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59440" y="456912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88600" y="455256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519200" y="4533120"/>
              <a:ext cx="205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548720" y="451656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77880" y="450036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8480" y="448092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38000" y="4467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67520" y="445104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98120" y="4435560"/>
              <a:ext cx="2196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26920" y="4422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57880" y="440568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87040" y="439272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18000" y="4382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48600" y="437292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79200" y="436284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10160" y="4356360"/>
              <a:ext cx="205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9320" y="434628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7028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00880" y="4343400"/>
              <a:ext cx="2160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31480" y="4343400"/>
              <a:ext cx="2196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6244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93040" y="4346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23640" y="435636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54600" y="43628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85200" y="4376160"/>
              <a:ext cx="205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14720" y="438948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45320" y="4405680"/>
              <a:ext cx="201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74840" y="4425480"/>
              <a:ext cx="201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03640" y="444492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33160" y="4467240"/>
              <a:ext cx="205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60880" y="4491000"/>
              <a:ext cx="2196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90400" y="451656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17760" y="4543560"/>
              <a:ext cx="205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5840" y="456912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62040" y="4549680"/>
              <a:ext cx="5256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828800" y="38862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828800" y="464832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52480" y="5410080"/>
            <a:ext cx="6988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A66-1EC1-43F0-A835-5C9F54B63C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5A1BD-3470-4350-8E92-750C75CB25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nection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2514600"/>
            <a:ext cx="807696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90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01640" y="38926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601640" y="46530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01640" y="54118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923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926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929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932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935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938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941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900080" y="3922560"/>
            <a:ext cx="309600" cy="187560"/>
            <a:chOff x="1900080" y="3922560"/>
            <a:chExt cx="309600" cy="187560"/>
          </a:xfrm>
        </p:grpSpPr>
        <p:sp>
          <p:nvSpPr>
            <p:cNvPr id="952" name=""/>
            <p:cNvSpPr/>
            <p:nvPr/>
          </p:nvSpPr>
          <p:spPr>
            <a:xfrm>
              <a:off x="1900080" y="3922560"/>
              <a:ext cx="460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962000" y="4008600"/>
              <a:ext cx="5580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9" y="4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1" y="26"/>
                  </a:lnTo>
                  <a:lnTo>
                    <a:pt x="25" y="23"/>
                  </a:lnTo>
                  <a:lnTo>
                    <a:pt x="25" y="26"/>
                  </a:lnTo>
                  <a:lnTo>
                    <a:pt x="28" y="26"/>
                  </a:lnTo>
                  <a:lnTo>
                    <a:pt x="19" y="1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43000" y="4049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9" y="26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8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5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2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4804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957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962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967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972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977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900080" y="3467160"/>
            <a:ext cx="3956040" cy="471600"/>
            <a:chOff x="1900080" y="3467160"/>
            <a:chExt cx="3956040" cy="471600"/>
          </a:xfrm>
        </p:grpSpPr>
        <p:sp>
          <p:nvSpPr>
            <p:cNvPr id="982" name=""/>
            <p:cNvSpPr/>
            <p:nvPr/>
          </p:nvSpPr>
          <p:spPr>
            <a:xfrm>
              <a:off x="1900080" y="390384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01960" y="387828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03480" y="384660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05000" y="3816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305080" y="37908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1280" y="3760920"/>
              <a:ext cx="71640" cy="298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13160" y="37353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614680" y="37101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20880" y="36799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22400" y="3659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4280" y="36338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30480" y="36100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30560" y="35892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36760" y="3564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38640" y="354348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44840" y="352728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51400" y="35132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57600" y="34974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63800" y="348768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65680" y="347184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7188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78440" y="346716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84640" y="346716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9084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397400" y="3471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03600" y="348768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10160" y="34974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3517920"/>
              <a:ext cx="716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18240" y="35384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924440" y="35640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25960" y="35942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26040" y="362412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27560" y="36590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24400" y="3695760"/>
              <a:ext cx="7632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25920" y="3735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21320" y="377676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18160" y="3816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73600" y="37861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08120" y="4216320"/>
            <a:ext cx="3954600" cy="471600"/>
            <a:chOff x="2508120" y="4216320"/>
            <a:chExt cx="3954600" cy="471600"/>
          </a:xfrm>
        </p:grpSpPr>
        <p:sp>
          <p:nvSpPr>
            <p:cNvPr id="1021" name=""/>
            <p:cNvSpPr/>
            <p:nvPr/>
          </p:nvSpPr>
          <p:spPr>
            <a:xfrm>
              <a:off x="2508120" y="46530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0000" y="4627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11520" y="4595760"/>
              <a:ext cx="6984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11600" y="4565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13120" y="454032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19320" y="4510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21200" y="4484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22720" y="44593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28920" y="4429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430440" y="44085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30520" y="4383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37080" y="43592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38600" y="43387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844800" y="4313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46680" y="42926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52880" y="4278240"/>
              <a:ext cx="7632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59080" y="42624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65640" y="42465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71840" y="423720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473720" y="422100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7992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86480" y="421632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2680" y="421632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9888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005440" y="4221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1640" y="4237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18200" y="424656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24400" y="426708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25920" y="4287960"/>
              <a:ext cx="74880" cy="2988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30680" y="431316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32560" y="434340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34080" y="4373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35600" y="4408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32440" y="444492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2520" y="4484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129360" y="45259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26200" y="45655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81640" y="4535640"/>
              <a:ext cx="181080" cy="15228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3116160" y="4986360"/>
            <a:ext cx="3954600" cy="471600"/>
            <a:chOff x="3116160" y="4986360"/>
            <a:chExt cx="3954600" cy="471600"/>
          </a:xfrm>
        </p:grpSpPr>
        <p:sp>
          <p:nvSpPr>
            <p:cNvPr id="1060" name=""/>
            <p:cNvSpPr/>
            <p:nvPr/>
          </p:nvSpPr>
          <p:spPr>
            <a:xfrm>
              <a:off x="3116160" y="54212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18040" y="53960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7760" y="53658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53355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21160" y="5310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27360" y="52801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28880" y="52545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30760" y="5229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936960" y="519912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7040" y="51786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38560" y="5153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45120" y="512748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46640" y="5108400"/>
              <a:ext cx="75960" cy="2412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452840" y="50832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554360" y="50626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60920" y="50468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767120" y="5032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73680" y="50166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79880" y="5006880"/>
              <a:ext cx="6984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08176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187960" y="49863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294160" y="4986360"/>
              <a:ext cx="7488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400720" y="4986360"/>
              <a:ext cx="7452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06920" y="4986360"/>
              <a:ext cx="7488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61348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19680" y="50068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26240" y="5016600"/>
              <a:ext cx="74520" cy="2520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32440" y="503712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032520" y="505764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38720" y="50832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240600" y="5113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342120" y="514368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43640" y="517860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39040" y="5214960"/>
              <a:ext cx="7596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40560" y="525456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37400" y="529596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832440" y="533556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888240" y="53053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1099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1116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546880" y="3452760"/>
            <a:ext cx="3047760" cy="486000"/>
            <a:chOff x="5546880" y="3452760"/>
            <a:chExt cx="3047760" cy="486000"/>
          </a:xfrm>
        </p:grpSpPr>
        <p:sp>
          <p:nvSpPr>
            <p:cNvPr id="1128" name=""/>
            <p:cNvSpPr/>
            <p:nvPr/>
          </p:nvSpPr>
          <p:spPr>
            <a:xfrm>
              <a:off x="5546880" y="390852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48400" y="38829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9920" y="385776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56120" y="38322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56200" y="38070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62760" y="3781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64280" y="37558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265800" y="37306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72360" y="37101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473880" y="368460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580080" y="3659040"/>
              <a:ext cx="76320" cy="320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81960" y="363996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88160" y="36147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88240" y="359424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94440" y="35733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095960" y="3552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2520" y="35337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08720" y="35132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410600" y="349740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516800" y="34830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623000" y="34671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29560" y="345744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83576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942320" y="3452760"/>
              <a:ext cx="76320" cy="144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4852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155080" y="346248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56600" y="3483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62800" y="350820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458200" y="3548160"/>
              <a:ext cx="71280" cy="46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555040" y="35989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6154560" y="4172040"/>
            <a:ext cx="2440080" cy="515880"/>
            <a:chOff x="6154560" y="4172040"/>
            <a:chExt cx="2440080" cy="515880"/>
          </a:xfrm>
        </p:grpSpPr>
        <p:sp>
          <p:nvSpPr>
            <p:cNvPr id="1159" name=""/>
            <p:cNvSpPr/>
            <p:nvPr/>
          </p:nvSpPr>
          <p:spPr>
            <a:xfrm>
              <a:off x="6154560" y="464652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249960" y="460692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351480" y="4570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448320" y="45306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50200" y="44956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645240" y="4454640"/>
              <a:ext cx="7632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46760" y="441972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48640" y="438300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0160" y="435276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50240" y="43178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51760" y="428796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253280" y="42624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354800" y="42372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61360" y="421632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62880" y="41958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69080" y="418608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775640" y="4176720"/>
              <a:ext cx="7596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881840" y="4172040"/>
              <a:ext cx="7488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988400" y="4172040"/>
              <a:ext cx="745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94600" y="417204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201160" y="417672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07360" y="41860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413920" y="419580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520120" y="42069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762600" y="4930920"/>
            <a:ext cx="1832040" cy="515880"/>
            <a:chOff x="6762600" y="4930920"/>
            <a:chExt cx="1832040" cy="515880"/>
          </a:xfrm>
        </p:grpSpPr>
        <p:sp>
          <p:nvSpPr>
            <p:cNvPr id="1184" name=""/>
            <p:cNvSpPr/>
            <p:nvPr/>
          </p:nvSpPr>
          <p:spPr>
            <a:xfrm>
              <a:off x="6762600" y="5407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858000" y="5365800"/>
              <a:ext cx="7128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954840" y="5326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56360" y="5284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51760" y="5245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3280" y="52038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50120" y="5164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50200" y="512748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547040" y="5092560"/>
              <a:ext cx="7596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648560" y="5057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50080" y="502128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51600" y="4991040"/>
              <a:ext cx="7020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51680" y="496584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58240" y="494496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5976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65960" y="4930920"/>
              <a:ext cx="76320" cy="1404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7252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478720" y="4951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580600" y="49705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07E-47EB-4628-A8D0-EE6F6CFE74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CAC50-A2DE-45D9-8A95-C1691B7E2C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vs. Connection Flight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large-scale problems, time-line network has fewer ground arcs than connection arcs in the connection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rther reduction in network size possible through “node consolidation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network allows more complex relations among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a flight to connect 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ly a subse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later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732-E3E1-4C97-9831-B10512BBA7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203EC-4E53-42A8-9A0B-DD5E2312B1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7" name=""/>
          <p:cNvSpPr/>
          <p:nvPr/>
        </p:nvSpPr>
        <p:spPr>
          <a:xfrm>
            <a:off x="304920" y="2743200"/>
            <a:ext cx="8534160" cy="1965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562640" y="3898800"/>
            <a:ext cx="101268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514840" y="3843360"/>
            <a:ext cx="13680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5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56264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600440" y="37051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64040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6782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716360" y="36194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757760" y="3588840"/>
            <a:ext cx="172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794120" y="35622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4832280" y="35337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870440" y="35035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911840" y="34765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94820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4986360" y="34178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502452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06268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103720" y="33321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514044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17860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5216400" y="32464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5254560" y="32162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52941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3323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5370480" y="31305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5408640" y="310176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44680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48640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52456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56272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60088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638680" y="29289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5678640" y="2900160"/>
            <a:ext cx="187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645160" y="2851200"/>
            <a:ext cx="11736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3" y="31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96252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027760" y="2851200"/>
            <a:ext cx="134640" cy="123840"/>
          </a:xfrm>
          <a:custGeom>
            <a:avLst/>
            <a:gdLst/>
            <a:ahLst/>
            <a:rect l="l" t="t" r="r" b="b"/>
            <a:pathLst>
              <a:path w="85" h="78">
                <a:moveTo>
                  <a:pt x="0" y="16"/>
                </a:moveTo>
                <a:lnTo>
                  <a:pt x="85" y="0"/>
                </a:lnTo>
                <a:lnTo>
                  <a:pt x="46" y="78"/>
                </a:lnTo>
                <a:lnTo>
                  <a:pt x="46" y="73"/>
                </a:lnTo>
                <a:lnTo>
                  <a:pt x="45" y="69"/>
                </a:lnTo>
                <a:lnTo>
                  <a:pt x="42" y="64"/>
                </a:lnTo>
                <a:lnTo>
                  <a:pt x="41" y="60"/>
                </a:lnTo>
                <a:lnTo>
                  <a:pt x="40" y="55"/>
                </a:lnTo>
                <a:lnTo>
                  <a:pt x="37" y="52"/>
                </a:lnTo>
                <a:lnTo>
                  <a:pt x="35" y="48"/>
                </a:lnTo>
                <a:lnTo>
                  <a:pt x="32" y="44"/>
                </a:lnTo>
                <a:lnTo>
                  <a:pt x="29" y="39"/>
                </a:lnTo>
                <a:lnTo>
                  <a:pt x="26" y="36"/>
                </a:lnTo>
                <a:lnTo>
                  <a:pt x="22" y="33"/>
                </a:lnTo>
                <a:lnTo>
                  <a:pt x="20" y="29"/>
                </a:lnTo>
                <a:lnTo>
                  <a:pt x="16" y="26"/>
                </a:lnTo>
                <a:lnTo>
                  <a:pt x="12" y="23"/>
                </a:lnTo>
                <a:lnTo>
                  <a:pt x="8" y="20"/>
                </a:lnTo>
                <a:lnTo>
                  <a:pt x="5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2162160" y="46339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2200320" y="46051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2241720" y="4576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279520" y="4546080"/>
            <a:ext cx="17640" cy="16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2316240" y="45180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2354400" y="4489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2395440" y="44607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2433600" y="443088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470320" y="4403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2508120" y="437328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2549520" y="434484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587680" y="431496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2624040" y="428760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662200" y="425736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2703600" y="422892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2741760" y="419904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2778120" y="41716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2816280" y="414144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857680" y="411300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895480" y="408312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933640" y="4055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970360" y="40273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3008160" y="39974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3046320" y="3968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084480" y="39416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3122640" y="39114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3162240" y="3893760"/>
            <a:ext cx="468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112920" y="3843360"/>
            <a:ext cx="11916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40" y="64"/>
                </a:lnTo>
                <a:lnTo>
                  <a:pt x="39" y="61"/>
                </a:lnTo>
                <a:lnTo>
                  <a:pt x="38" y="57"/>
                </a:lnTo>
                <a:lnTo>
                  <a:pt x="36" y="53"/>
                </a:lnTo>
                <a:lnTo>
                  <a:pt x="35" y="49"/>
                </a:lnTo>
                <a:lnTo>
                  <a:pt x="33" y="46"/>
                </a:lnTo>
                <a:lnTo>
                  <a:pt x="31" y="42"/>
                </a:lnTo>
                <a:lnTo>
                  <a:pt x="29" y="38"/>
                </a:lnTo>
                <a:lnTo>
                  <a:pt x="26" y="34"/>
                </a:lnTo>
                <a:lnTo>
                  <a:pt x="24" y="32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1" y="20"/>
                </a:lnTo>
                <a:lnTo>
                  <a:pt x="7" y="18"/>
                </a:lnTo>
                <a:lnTo>
                  <a:pt x="4" y="1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562040" y="3898800"/>
            <a:ext cx="101304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514600" y="384336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6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963720" y="46339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003320" y="46069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1041480" y="457812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079640" y="455112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119240" y="4522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1157400" y="44942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195560" y="44672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1235160" y="443844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1273320" y="44114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1311120" y="43830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351080" y="435456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1389240" y="432756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1427040" y="42987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1467000" y="42703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504800" y="42433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1542960" y="421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1582560" y="418752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1620720" y="41590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660680" y="41306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1698480" y="4103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736640" y="407484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1776240" y="40478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814400" y="40194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1852560" y="3990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1892160" y="39639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1930320" y="39351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1968480" y="3909600"/>
            <a:ext cx="15840" cy="111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933560" y="3862440"/>
            <a:ext cx="117360" cy="106200"/>
          </a:xfrm>
          <a:custGeom>
            <a:avLst/>
            <a:gdLst/>
            <a:ahLst/>
            <a:rect l="l" t="t" r="r" b="b"/>
            <a:pathLst>
              <a:path w="74" h="67">
                <a:moveTo>
                  <a:pt x="0" y="12"/>
                </a:moveTo>
                <a:lnTo>
                  <a:pt x="74" y="0"/>
                </a:lnTo>
                <a:lnTo>
                  <a:pt x="39" y="67"/>
                </a:lnTo>
                <a:lnTo>
                  <a:pt x="39" y="64"/>
                </a:lnTo>
                <a:lnTo>
                  <a:pt x="37" y="60"/>
                </a:lnTo>
                <a:lnTo>
                  <a:pt x="36" y="55"/>
                </a:lnTo>
                <a:lnTo>
                  <a:pt x="35" y="51"/>
                </a:lnTo>
                <a:lnTo>
                  <a:pt x="32" y="47"/>
                </a:lnTo>
                <a:lnTo>
                  <a:pt x="31" y="44"/>
                </a:lnTo>
                <a:lnTo>
                  <a:pt x="29" y="40"/>
                </a:lnTo>
                <a:lnTo>
                  <a:pt x="26" y="37"/>
                </a:lnTo>
                <a:lnTo>
                  <a:pt x="25" y="34"/>
                </a:lnTo>
                <a:lnTo>
                  <a:pt x="21" y="30"/>
                </a:lnTo>
                <a:lnTo>
                  <a:pt x="18" y="27"/>
                </a:lnTo>
                <a:lnTo>
                  <a:pt x="16" y="25"/>
                </a:lnTo>
                <a:lnTo>
                  <a:pt x="12" y="22"/>
                </a:lnTo>
                <a:lnTo>
                  <a:pt x="10" y="18"/>
                </a:lnTo>
                <a:lnTo>
                  <a:pt x="6" y="17"/>
                </a:lnTo>
                <a:lnTo>
                  <a:pt x="2" y="15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63600" y="3917520"/>
            <a:ext cx="1011240" cy="730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314360" y="386244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6" y="78"/>
                </a:lnTo>
                <a:lnTo>
                  <a:pt x="44" y="73"/>
                </a:lnTo>
                <a:lnTo>
                  <a:pt x="43" y="69"/>
                </a:lnTo>
                <a:lnTo>
                  <a:pt x="42" y="64"/>
                </a:lnTo>
                <a:lnTo>
                  <a:pt x="41" y="59"/>
                </a:lnTo>
                <a:lnTo>
                  <a:pt x="39" y="55"/>
                </a:lnTo>
                <a:lnTo>
                  <a:pt x="37" y="51"/>
                </a:lnTo>
                <a:lnTo>
                  <a:pt x="34" y="46"/>
                </a:lnTo>
                <a:lnTo>
                  <a:pt x="32" y="42"/>
                </a:lnTo>
                <a:lnTo>
                  <a:pt x="29" y="39"/>
                </a:lnTo>
                <a:lnTo>
                  <a:pt x="25" y="35"/>
                </a:lnTo>
                <a:lnTo>
                  <a:pt x="23" y="31"/>
                </a:lnTo>
                <a:lnTo>
                  <a:pt x="19" y="28"/>
                </a:lnTo>
                <a:lnTo>
                  <a:pt x="15" y="25"/>
                </a:lnTo>
                <a:lnTo>
                  <a:pt x="12" y="22"/>
                </a:lnTo>
                <a:lnTo>
                  <a:pt x="8" y="20"/>
                </a:lnTo>
                <a:lnTo>
                  <a:pt x="4" y="17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756288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7601040" y="37051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764064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76788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7716960" y="36194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7756560" y="3588840"/>
            <a:ext cx="190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7794720" y="35622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7832880" y="3533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7870680" y="35035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7910640" y="34765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794844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7986600" y="34178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802476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06292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8102520" y="3332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814068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17884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8217000" y="324648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8255160" y="3216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82947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83329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8370720" y="31305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8408880" y="31017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844704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848664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852480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856296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860112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8639280" y="2928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8678880" y="29001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645400" y="2851200"/>
            <a:ext cx="11772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2" y="31"/>
                </a:lnTo>
                <a:lnTo>
                  <a:pt x="20" y="29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696276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026560" y="285120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6"/>
                </a:moveTo>
                <a:lnTo>
                  <a:pt x="86" y="0"/>
                </a:lnTo>
                <a:lnTo>
                  <a:pt x="47" y="78"/>
                </a:lnTo>
                <a:lnTo>
                  <a:pt x="47" y="73"/>
                </a:lnTo>
                <a:lnTo>
                  <a:pt x="46" y="69"/>
                </a:lnTo>
                <a:lnTo>
                  <a:pt x="43" y="64"/>
                </a:lnTo>
                <a:lnTo>
                  <a:pt x="42" y="60"/>
                </a:lnTo>
                <a:lnTo>
                  <a:pt x="41" y="55"/>
                </a:lnTo>
                <a:lnTo>
                  <a:pt x="38" y="52"/>
                </a:lnTo>
                <a:lnTo>
                  <a:pt x="36" y="48"/>
                </a:lnTo>
                <a:lnTo>
                  <a:pt x="33" y="44"/>
                </a:lnTo>
                <a:lnTo>
                  <a:pt x="29" y="39"/>
                </a:lnTo>
                <a:lnTo>
                  <a:pt x="27" y="36"/>
                </a:lnTo>
                <a:lnTo>
                  <a:pt x="23" y="33"/>
                </a:lnTo>
                <a:lnTo>
                  <a:pt x="21" y="29"/>
                </a:lnTo>
                <a:lnTo>
                  <a:pt x="17" y="26"/>
                </a:lnTo>
                <a:lnTo>
                  <a:pt x="13" y="23"/>
                </a:lnTo>
                <a:lnTo>
                  <a:pt x="9" y="20"/>
                </a:lnTo>
                <a:lnTo>
                  <a:pt x="6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5162400" y="4633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200560" y="4606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5238720" y="45781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5276880" y="4548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5316480" y="4521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5354640" y="44924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5392800" y="44622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432400" y="4435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470560" y="4406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508720" y="43765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548320" y="4349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5586480" y="43192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5627520" y="42908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665680" y="42624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702400" y="42336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5743440" y="4205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5781600" y="41767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5819760" y="4146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5859360" y="4119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5897520" y="40910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935680" y="4060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975280" y="4033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013440" y="400500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6051600" y="3975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6091200" y="3947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6129360" y="3917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6168960" y="3890880"/>
            <a:ext cx="1584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132600" y="3843360"/>
            <a:ext cx="11880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39" y="64"/>
                </a:lnTo>
                <a:lnTo>
                  <a:pt x="38" y="59"/>
                </a:lnTo>
                <a:lnTo>
                  <a:pt x="37" y="56"/>
                </a:lnTo>
                <a:lnTo>
                  <a:pt x="36" y="52"/>
                </a:lnTo>
                <a:lnTo>
                  <a:pt x="34" y="48"/>
                </a:lnTo>
                <a:lnTo>
                  <a:pt x="32" y="44"/>
                </a:lnTo>
                <a:lnTo>
                  <a:pt x="31" y="40"/>
                </a:lnTo>
                <a:lnTo>
                  <a:pt x="28" y="38"/>
                </a:lnTo>
                <a:lnTo>
                  <a:pt x="26" y="34"/>
                </a:lnTo>
                <a:lnTo>
                  <a:pt x="23" y="32"/>
                </a:lnTo>
                <a:lnTo>
                  <a:pt x="21" y="28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5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620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9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4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1621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5588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225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76228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590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72268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6240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7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2280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6252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35924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2256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62640" y="3749760"/>
            <a:ext cx="10508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2268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76252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596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72292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3626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597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3230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9627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9231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92120" y="3111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967160" y="3111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49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94352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29840" y="40100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1664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467240" y="3011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472160" y="3011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973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534760" y="4010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130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3" y="73"/>
                </a:lnTo>
                <a:lnTo>
                  <a:pt x="10" y="54"/>
                </a:lnTo>
                <a:lnTo>
                  <a:pt x="21" y="35"/>
                </a:lnTo>
                <a:lnTo>
                  <a:pt x="37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7" y="168"/>
                </a:lnTo>
                <a:lnTo>
                  <a:pt x="21" y="153"/>
                </a:lnTo>
                <a:lnTo>
                  <a:pt x="10" y="136"/>
                </a:lnTo>
                <a:lnTo>
                  <a:pt x="3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131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128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21300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1312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41324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1348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2136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137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4134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174-EBD0-4D81-BC0B-64711B2F08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D7B91-9E88-427D-8DB2-3E54A91D9DBE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 Consolid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2057400"/>
            <a:ext cx="9144000" cy="3276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5626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622840" y="3862440"/>
            <a:ext cx="14616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7" y="122"/>
                </a:lnTo>
                <a:lnTo>
                  <a:pt x="47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4" y="52"/>
                </a:lnTo>
                <a:lnTo>
                  <a:pt x="20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562640" y="37116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4603680" y="3662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646520" y="36162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4686480" y="3565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47275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47703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4811760" y="342216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48513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892760" y="332532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935600" y="32796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4975200" y="322848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5016600" y="3182400"/>
            <a:ext cx="2196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5057640" y="3136680"/>
            <a:ext cx="208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097600" y="3086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5140440" y="303984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51814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52228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52624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3038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53467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388120" y="27493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5427720" y="27036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54687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5510160" y="2606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5553000" y="256068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55926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6340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5675400" y="24177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5715000" y="23670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57578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721480" y="2236680"/>
            <a:ext cx="12672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3" y="69"/>
                </a:lnTo>
                <a:lnTo>
                  <a:pt x="30" y="63"/>
                </a:lnTo>
                <a:lnTo>
                  <a:pt x="27" y="57"/>
                </a:lnTo>
                <a:lnTo>
                  <a:pt x="25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3919680" y="2329920"/>
            <a:ext cx="120492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59440" y="2236680"/>
            <a:ext cx="14580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5" y="101"/>
                </a:lnTo>
                <a:lnTo>
                  <a:pt x="43" y="93"/>
                </a:lnTo>
                <a:lnTo>
                  <a:pt x="41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8" y="44"/>
                </a:lnTo>
                <a:lnTo>
                  <a:pt x="14" y="38"/>
                </a:lnTo>
                <a:lnTo>
                  <a:pt x="10" y="34"/>
                </a:lnTo>
                <a:lnTo>
                  <a:pt x="6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199080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203364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07504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11788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215748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198520" y="49737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2241720" y="4924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228276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232560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23652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24066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24494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49084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253368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25732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6146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65752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69892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274176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78136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28224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2865600" y="421452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290520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2948040" y="41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298944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30304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30733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12920" y="3941640"/>
            <a:ext cx="1296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0686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3478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0840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0488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74772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78912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83196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87156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912960" y="4973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95580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99684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103968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1079640" y="4784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1120680" y="4738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116352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20492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124776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128736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132876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137160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141300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145584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149544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1536840" y="42656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57968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1620720" y="41688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1663560" y="4121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170352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1744560" y="40291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178740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1827360" y="3941640"/>
            <a:ext cx="140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78272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7" y="80"/>
                </a:lnTo>
                <a:lnTo>
                  <a:pt x="35" y="73"/>
                </a:lnTo>
                <a:lnTo>
                  <a:pt x="33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6192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2248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4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7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7777080" y="37116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7816680" y="3662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7859880" y="361620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7900920" y="3565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79423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79851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8024760" y="3422160"/>
            <a:ext cx="223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80661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8107200" y="332532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8150400" y="3279600"/>
            <a:ext cx="187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8190000" y="32284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8231040" y="318240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8272440" y="313668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8312040" y="3086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8354880" y="303984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83962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84376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84772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85186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85615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8601120" y="274932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8642520" y="27036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86835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8723160" y="2606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8766000" y="2560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88074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88488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8888400" y="24177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8929800" y="23670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89726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935920" y="2236680"/>
            <a:ext cx="12708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2" y="69"/>
                </a:lnTo>
                <a:lnTo>
                  <a:pt x="30" y="63"/>
                </a:lnTo>
                <a:lnTo>
                  <a:pt x="27" y="57"/>
                </a:lnTo>
                <a:lnTo>
                  <a:pt x="24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7134120" y="2329920"/>
            <a:ext cx="120348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273880" y="2236680"/>
            <a:ext cx="14616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4" y="101"/>
                </a:lnTo>
                <a:lnTo>
                  <a:pt x="43" y="93"/>
                </a:lnTo>
                <a:lnTo>
                  <a:pt x="40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7" y="44"/>
                </a:lnTo>
                <a:lnTo>
                  <a:pt x="13" y="38"/>
                </a:lnTo>
                <a:lnTo>
                  <a:pt x="9" y="34"/>
                </a:lnTo>
                <a:lnTo>
                  <a:pt x="5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205240" y="5210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248440" y="516060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289480" y="51148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5332320" y="50673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5372280" y="50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5413320" y="4973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545616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5495760" y="48783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5538960" y="483084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55800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56214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56642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703840" y="46418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5746680" y="45943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57880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58294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5872320" y="445104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5911920" y="440532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5954760" y="4357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996160" y="431172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60372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608004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11964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162840" y="41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6203880" y="40752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62452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62881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6327720" y="3941640"/>
            <a:ext cx="1260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834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0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1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4784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93356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30500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9908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57652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94796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6337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21948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59092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2767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86244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23388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91968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503600" y="3646440"/>
            <a:ext cx="5904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7684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8482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43248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80536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911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07544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4832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341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71840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09128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022360" y="2670120"/>
            <a:ext cx="110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208720" y="26701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592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96872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97640" y="416880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8468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459320" y="250344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679880" y="250344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688000" y="3613320"/>
            <a:ext cx="224964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722840" y="3735360"/>
            <a:ext cx="9651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62932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187280" y="3613320"/>
            <a:ext cx="353556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76184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388960" y="4168800"/>
            <a:ext cx="307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553-24AF-40A8-A3FF-05BCB8297C7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A8A7E-A608-4D79-AEC4-F9240530DA98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light Networks and Shortest Path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rtest paths on flight networks correspond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itineraries for passeng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profit aircraft ro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crew work schedules (on crew-feasible paths onl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rtant to be able to determine shortest paths in fligh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526-FDF8-4A5F-935F-8C8B79EA12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88BB3-E1AA-49DD-88AB-BA09F6A508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Challenges in Flight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 are larg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ousands of flight arcs and ground arcs; thousands of flight arcs and tens of thousands connection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many airline optimization problems,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repeatedl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find shortest path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consider only “feasible” paths when determining 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y time” (not “arrival time”) of flight arrival nodes ensures feasibility of aircraft ro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asible crew work schedules correspond to a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et of possible network path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ntify the shortest “feasible” paths (i.e.,  feasible work schedules) using multi-label shortest path algorith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C96-2B27-47C3-85A5-3BA42B4F40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7FA89-AA24-4792-8104-D7F918539F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191124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444760" y="3892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019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835280" y="4807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36844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901960" y="47307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2133720" y="4038120"/>
            <a:ext cx="30456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666880" y="4038480"/>
            <a:ext cx="22860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2590920" y="4952880"/>
            <a:ext cx="38088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2057040" y="4952880"/>
            <a:ext cx="30492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1905120" y="4419720"/>
            <a:ext cx="7596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58520" y="2666880"/>
            <a:ext cx="197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62624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81597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61696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550280" y="5111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083440" y="5340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61696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7848720" y="434304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8381880" y="43434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763120" y="4724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8305920" y="52578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 flipV="1">
            <a:off x="7772040" y="5257440"/>
            <a:ext cx="30492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7620120" y="4723920"/>
            <a:ext cx="7596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025600" y="2362320"/>
            <a:ext cx="208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44560" y="54165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645160" y="29019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578480" y="3435480"/>
            <a:ext cx="21564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94044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397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33096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149480" y="587376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530360" y="5264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111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673360" y="58737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1066680" y="54100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1294920" y="54864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H="1" flipV="1">
            <a:off x="990360" y="5638320"/>
            <a:ext cx="15228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752480" y="5410080"/>
            <a:ext cx="9144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289548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800600" y="3048120"/>
            <a:ext cx="83808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800600" y="358128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800600" y="36576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867280" y="297180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867280" y="304812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53080" y="35812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7162920" y="3123720"/>
            <a:ext cx="4572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5334120" y="3657600"/>
            <a:ext cx="9903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334120" y="419112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162920" y="35812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7543800" y="3124080"/>
            <a:ext cx="15228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920880" y="3359160"/>
            <a:ext cx="21564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225440" y="3816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606680" y="3206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1143000" y="33526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1371240" y="34290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 flipV="1">
            <a:off x="1066680" y="3580920"/>
            <a:ext cx="15264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25840" y="48830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730760" y="53402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1116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4648320" y="480024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510552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4876920" y="4952520"/>
            <a:ext cx="3045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4832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873760" y="52642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492880" y="57214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7118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93080" y="52642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10236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3976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705720" y="48769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6095520" y="4876920"/>
            <a:ext cx="38124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71464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95880" y="54100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693396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315200" y="54864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Directed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-line and Connection networks are acyclic directed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254-540A-4D9E-AD62-3A5FDC86D9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DBFB6-FCAD-4CC0-86DD-813AF30B70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Networks and Shortest Path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icient algorithms exist for finding shortest paths on acyclic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ount of work is directly proportional to the number of arcs in the networ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ological ordering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a network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its nu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nodes of a networ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e topologically ordered if 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, n(j) &lt; n(k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C78-D86B-4993-AEDC-717E17B596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1D4A1-766A-4F54-8D26-2E22A8E5C7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073160" y="28256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606680" y="2521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063880" y="2825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996840" y="34354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530360" y="36640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063880" y="335916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1295280" y="266652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828800" y="26668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752120" y="3581280"/>
            <a:ext cx="38124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 flipV="1">
            <a:off x="1219320" y="3581280"/>
            <a:ext cx="30456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1066680" y="3048120"/>
            <a:ext cx="7632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56884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50216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864480" y="30542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321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25464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035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47396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4724280" y="2666880"/>
            <a:ext cx="83844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724280" y="3200400"/>
            <a:ext cx="152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724280" y="32767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791320" y="2590920"/>
            <a:ext cx="1752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791320" y="266688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477120" y="32004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7086600" y="274320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5257800" y="3276360"/>
            <a:ext cx="9907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257800" y="380988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086600" y="32004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7467480" y="2743200"/>
            <a:ext cx="15264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530360" y="45021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920880" y="50356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396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7589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139840" y="50356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1494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4447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752480" y="46483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1143000" y="46483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761760" y="51814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143000" y="51814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1981080" y="51814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362320" y="52578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5228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8544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04264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75960" y="33987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509480" y="3627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042640" y="3322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48128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014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54796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23376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4324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300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45308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509480" y="4465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11896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238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7380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1282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187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9964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873760" y="4959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2642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88304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1023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4832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492880" y="59500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881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095880" y="51055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5486400" y="51055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5105160" y="56386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486400" y="56386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324480" y="56386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57150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852880" y="49230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4623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672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814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47164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6216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2430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4952880" y="27432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5029200" y="30481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800600" y="34290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5334120" y="35053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5867280" y="36576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5791320" y="27432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6172200" y="24382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64771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7086600" y="28195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7010280" y="327672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73915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76E-F207-4FA5-90B5-123EF0B099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8C7D7-D40E-46E4-B8E4-F49DFCC9FD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-up Sh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llab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chedule Planning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-line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ection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-label 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D58-6503-4AC7-B3DB-B6A597810D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E4F19-F07B-47D9-A985-3F6F010A95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n acyclic graph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 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(j)=0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eat until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|N|+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her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|N|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number of nodes 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no incoming arcs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lete all arcs outgoing from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38F-234F-47A5-929B-C7A25B6C2EE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8166E-96C6-4C7E-85FA-B42AA8E6D2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rot="17880000">
            <a:off x="837720" y="2586960"/>
            <a:ext cx="48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rot="21540000">
            <a:off x="936000" y="34970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rot="3420000">
            <a:off x="3341160" y="397656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rot="4260000">
            <a:off x="1859400" y="43570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rot="3360000">
            <a:off x="7122600" y="2109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rot="3660000">
            <a:off x="2328120" y="21924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21540000">
            <a:off x="5799960" y="60274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rot="21540000">
            <a:off x="3317040" y="6021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21540000">
            <a:off x="6724080" y="3522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rot="21540000">
            <a:off x="3558240" y="34682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21540000">
            <a:off x="1948680" y="3510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rot="21540000">
            <a:off x="3815640" y="13604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rot="3420000">
            <a:off x="6557400" y="431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rot="18480000">
            <a:off x="4954680" y="260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rot="17880000">
            <a:off x="4999320" y="4620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4" name=""/>
          <p:cNvSpPr/>
          <p:nvPr/>
        </p:nvSpPr>
        <p:spPr>
          <a:xfrm>
            <a:off x="421920" y="314964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6019920"/>
            <a:ext cx="212580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n(j):  l(j), p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98160" y="1066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450800" y="3200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13660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89836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22600" y="5486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56560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175080" y="99072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54668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927200" y="3124080"/>
            <a:ext cx="89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808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295280" y="10666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447920" y="3200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10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11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0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13372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1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2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4D7-49FE-4C8B-83BD-09EC6594B8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89C67-519A-4B0D-B7CC-EBF18B8547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Algorithm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length of the shortest path to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, p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predecessor nod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the shorte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st of arc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,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j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(k)=min(l(k), l(j)+c(jk)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4672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(k)=l(j)+c(jk)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(k)=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9FC-4D6B-425C-8E5E-1318F12733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D62C5-A126-4CB3-8EE4-A922B404E3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ltiple Label (Constrained) Shortest Paths on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the objective of finding the minimum cost path with flying time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less than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ed valu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flying time on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cost of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for an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paths wi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&lt; F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any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re considered (the rest are exclud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abel set must be maintained at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non-dominated path to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dominated b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not dominated by an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,  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non-dominated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worst case, a label set is maintained at each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o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D8C-6006-409E-9588-AFD5EDE825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E7929-7FB7-4EFE-8A1B-29C8BBB6DB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strained Shortest Paths and Crew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sets are used to ensure that the shortest path is a “feasible”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bels are used to count the number of work hours in a day, the number of hours a crew is away from their home base, the number of flights in a given day, the number of hours rest in a 24 hour period, etc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ome applications, there are over 2 dozen labels in a label s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paths ar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n-domin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onential growth in the number of label sets (one set for each non-dominated path) at each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339-7ED9-4827-B228-8F16E178E8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3DCD1-CEF8-4C33-B61F-7C53D29228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17880000">
            <a:off x="789840" y="2507760"/>
            <a:ext cx="66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, 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rot="21540000">
            <a:off x="936000" y="3497400"/>
            <a:ext cx="52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rot="3420000">
            <a:off x="3297960" y="4051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rot="4260000">
            <a:off x="1846440" y="4474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rot="3360000">
            <a:off x="7080480" y="218412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rot="3660000">
            <a:off x="2280240" y="2268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21540000">
            <a:off x="5800680" y="60278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rot="21540000">
            <a:off x="3317760" y="6021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rot="21540000">
            <a:off x="6723000" y="3522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21540000">
            <a:off x="3558960" y="3468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21540000">
            <a:off x="1947600" y="35100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rot="21540000">
            <a:off x="3814560" y="1360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rot="3420000">
            <a:off x="6514200" y="43941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rot="18480000">
            <a:off x="4919760" y="25362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rot="17880000">
            <a:off x="4951440" y="45410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8" name=""/>
          <p:cNvSpPr/>
          <p:nvPr/>
        </p:nvSpPr>
        <p:spPr>
          <a:xfrm>
            <a:off x="108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6095880"/>
            <a:ext cx="2133720" cy="33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: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296360" y="1066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449000" y="3200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13480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420800" y="5486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56380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173280" y="99072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54488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80984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295280" y="1066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47920" y="3200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172200" y="9907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1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133720" y="5638680"/>
            <a:ext cx="144756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172200" y="609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543800" y="5638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6, 6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77240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7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7543800" y="5181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4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7772400" y="25909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1, 6, 8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772400" y="1981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3, 8, 8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5715000"/>
            <a:ext cx="213372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Max value of label 2 =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7620120" y="1905120"/>
            <a:ext cx="93348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feas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7772400" y="2362320"/>
            <a:ext cx="10098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inat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F4B-3997-4173-BB9D-0E41348B1E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0C788-F97F-4B95-8D40-CC1F8AC93C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nstrained Shortest Path Notation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value of labe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.g., length, flying time, etc.)  on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node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label set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cost of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maximum possible number of non-dominated label sets at any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p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number of non-dominated label sets for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021-D6B2-47AE-868B-3BE24702A6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09500-A568-4AB7-ACCF-DF6CF1BF06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trained Shortest Path Algorithm for Acyclic Network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= 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j)=0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1)=1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i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non-domina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+1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i, p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14120" indent="-162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=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i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c(i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&gt;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som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=1,..,np(j)-1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 dominated and 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545-DB52-4008-8DD6-F68B70EE3A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E15FC-3B5D-48B7-87BC-FB96A9859E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440" y="461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59000" y="461880"/>
            <a:ext cx="6021000" cy="5488200"/>
            <a:chOff x="1359000" y="461880"/>
            <a:chExt cx="6021000" cy="5488200"/>
          </a:xfrm>
        </p:grpSpPr>
        <p:grpSp>
          <p:nvGrpSpPr>
            <p:cNvPr id="57" name=""/>
            <p:cNvGrpSpPr/>
            <p:nvPr/>
          </p:nvGrpSpPr>
          <p:grpSpPr>
            <a:xfrm>
              <a:off x="1359000" y="461880"/>
              <a:ext cx="6018480" cy="5487120"/>
              <a:chOff x="1359000" y="461880"/>
              <a:chExt cx="6018480" cy="5487120"/>
            </a:xfrm>
          </p:grpSpPr>
          <p:sp>
            <p:nvSpPr>
              <p:cNvPr id="58" name=""/>
              <p:cNvSpPr/>
              <p:nvPr/>
            </p:nvSpPr>
            <p:spPr>
              <a:xfrm>
                <a:off x="1359000" y="46188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59000" y="56664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59000" y="671400"/>
                <a:ext cx="6018480" cy="106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59000" y="778320"/>
                <a:ext cx="6018480" cy="10476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59000" y="883080"/>
                <a:ext cx="6018480" cy="10584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59000" y="988920"/>
                <a:ext cx="6018480" cy="10476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59000" y="1094040"/>
                <a:ext cx="6018480" cy="10692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59000" y="120096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59000" y="130572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9000" y="1410840"/>
                <a:ext cx="6018480" cy="105840"/>
              </a:xfrm>
              <a:prstGeom prst="rect">
                <a:avLst/>
              </a:prstGeom>
              <a:solidFill>
                <a:srgbClr val="9d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9000" y="1516680"/>
                <a:ext cx="6018480" cy="105840"/>
              </a:xfrm>
              <a:prstGeom prst="rect">
                <a:avLst/>
              </a:prstGeom>
              <a:solidFill>
                <a:srgbClr val="9e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59000" y="1622520"/>
                <a:ext cx="6018480" cy="105840"/>
              </a:xfrm>
              <a:prstGeom prst="rect">
                <a:avLst/>
              </a:prstGeom>
              <a:solidFill>
                <a:srgbClr val="9f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59000" y="1728720"/>
                <a:ext cx="6018480" cy="104760"/>
              </a:xfrm>
              <a:prstGeom prst="rect">
                <a:avLst/>
              </a:prstGeom>
              <a:solidFill>
                <a:srgbClr val="a0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9000" y="1833480"/>
                <a:ext cx="6018480" cy="104760"/>
              </a:xfrm>
              <a:prstGeom prst="rect">
                <a:avLst/>
              </a:prstGeom>
              <a:solidFill>
                <a:srgbClr val="a1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59000" y="1938240"/>
                <a:ext cx="6018480" cy="105840"/>
              </a:xfrm>
              <a:prstGeom prst="rect">
                <a:avLst/>
              </a:prstGeom>
              <a:solidFill>
                <a:srgbClr val="a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59000" y="2044080"/>
                <a:ext cx="6018480" cy="105840"/>
              </a:xfrm>
              <a:prstGeom prst="rect">
                <a:avLst/>
              </a:prstGeom>
              <a:solidFill>
                <a:srgbClr val="a4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59000" y="2150280"/>
                <a:ext cx="6018480" cy="105840"/>
              </a:xfrm>
              <a:prstGeom prst="rect">
                <a:avLst/>
              </a:prstGeom>
              <a:solidFill>
                <a:srgbClr val="a5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59000" y="2256120"/>
                <a:ext cx="6018480" cy="104760"/>
              </a:xfrm>
              <a:prstGeom prst="rect">
                <a:avLst/>
              </a:pr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9000" y="2360880"/>
                <a:ext cx="6018480" cy="104760"/>
              </a:xfrm>
              <a:prstGeom prst="rect">
                <a:avLst/>
              </a:prstGeom>
              <a:solidFill>
                <a:srgbClr val="a8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9000" y="2466000"/>
                <a:ext cx="6018480" cy="106920"/>
              </a:xfrm>
              <a:prstGeom prst="rect">
                <a:avLst/>
              </a:prstGeom>
              <a:solidFill>
                <a:srgbClr val="a9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59000" y="2572920"/>
                <a:ext cx="6018480" cy="104760"/>
              </a:xfrm>
              <a:prstGeom prst="rect">
                <a:avLst/>
              </a:prstGeom>
              <a:solidFill>
                <a:srgbClr val="ab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359000" y="2677680"/>
                <a:ext cx="6018480" cy="104760"/>
              </a:xfrm>
              <a:prstGeom prst="rect">
                <a:avLst/>
              </a:prstGeom>
              <a:solidFill>
                <a:srgbClr val="ac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59000" y="2782800"/>
                <a:ext cx="6018480" cy="105840"/>
              </a:xfrm>
              <a:prstGeom prst="rect">
                <a:avLst/>
              </a:prstGeom>
              <a:solidFill>
                <a:srgbClr val="ae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59000" y="2888640"/>
                <a:ext cx="6018480" cy="105840"/>
              </a:xfrm>
              <a:prstGeom prst="rect">
                <a:avLst/>
              </a:prstGeom>
              <a:solidFill>
                <a:srgbClr val="b0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359000" y="2994480"/>
                <a:ext cx="6018480" cy="105840"/>
              </a:xfrm>
              <a:prstGeom prst="rect">
                <a:avLst/>
              </a:prstGeom>
              <a:solidFill>
                <a:srgbClr val="b1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59000" y="3100680"/>
                <a:ext cx="6018480" cy="104760"/>
              </a:xfrm>
              <a:prstGeom prst="rect">
                <a:avLst/>
              </a:prstGeom>
              <a:solidFill>
                <a:srgbClr val="b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59000" y="3205440"/>
                <a:ext cx="6018480" cy="104760"/>
              </a:xfrm>
              <a:prstGeom prst="rect">
                <a:avLst/>
              </a:prstGeom>
              <a:solidFill>
                <a:srgbClr val="b5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59000" y="3310200"/>
                <a:ext cx="6018480" cy="105840"/>
              </a:xfrm>
              <a:prstGeom prst="rect">
                <a:avLst/>
              </a:prstGeom>
              <a:solidFill>
                <a:srgbClr val="b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59000" y="3416040"/>
                <a:ext cx="6018480" cy="105840"/>
              </a:xfrm>
              <a:prstGeom prst="rect">
                <a:avLst/>
              </a:prstGeom>
              <a:solidFill>
                <a:srgbClr val="b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59000" y="3522240"/>
                <a:ext cx="6018480" cy="105840"/>
              </a:xfrm>
              <a:prstGeom prst="rect">
                <a:avLst/>
              </a:prstGeom>
              <a:solidFill>
                <a:srgbClr val="b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59000" y="3628080"/>
                <a:ext cx="6018480" cy="104760"/>
              </a:xfrm>
              <a:prstGeom prst="rect">
                <a:avLst/>
              </a:prstGeom>
              <a:solidFill>
                <a:srgbClr val="b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359000" y="3732840"/>
                <a:ext cx="6018480" cy="104760"/>
              </a:xfrm>
              <a:prstGeom prst="rect">
                <a:avLst/>
              </a:prstGeom>
              <a:solidFill>
                <a:srgbClr val="b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359000" y="3837600"/>
                <a:ext cx="6018480" cy="106920"/>
              </a:xfrm>
              <a:prstGeom prst="rect">
                <a:avLst/>
              </a:prstGeom>
              <a:solidFill>
                <a:srgbClr val="be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59000" y="3944520"/>
                <a:ext cx="6018480" cy="104760"/>
              </a:xfrm>
              <a:prstGeom prst="rect">
                <a:avLst/>
              </a:prstGeom>
              <a:solidFill>
                <a:srgbClr val="bf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59000" y="4049280"/>
                <a:ext cx="6018480" cy="104760"/>
              </a:xfrm>
              <a:prstGeom prst="rect">
                <a:avLst/>
              </a:prstGeom>
              <a:solidFill>
                <a:srgbClr val="c0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59000" y="4154400"/>
                <a:ext cx="6018480" cy="105840"/>
              </a:xfrm>
              <a:prstGeom prst="rect">
                <a:avLst/>
              </a:prstGeom>
              <a:solidFill>
                <a:srgbClr val="c1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59000" y="4260240"/>
                <a:ext cx="6018480" cy="105840"/>
              </a:xfrm>
              <a:prstGeom prst="rect">
                <a:avLst/>
              </a:prstGeom>
              <a:solidFill>
                <a:srgbClr val="c3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359000" y="4366080"/>
                <a:ext cx="6018480" cy="105840"/>
              </a:xfrm>
              <a:prstGeom prst="rect">
                <a:avLst/>
              </a:prstGeom>
              <a:solidFill>
                <a:srgbClr val="c4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59000" y="4472280"/>
                <a:ext cx="6018480" cy="104760"/>
              </a:xfrm>
              <a:prstGeom prst="rect">
                <a:avLst/>
              </a:prstGeom>
              <a:solidFill>
                <a:srgbClr val="c5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59000" y="4577040"/>
                <a:ext cx="6018480" cy="104760"/>
              </a:xfrm>
              <a:prstGeom prst="rect">
                <a:avLst/>
              </a:prstGeom>
              <a:solidFill>
                <a:srgbClr val="c6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59000" y="4681800"/>
                <a:ext cx="6018480" cy="105840"/>
              </a:xfrm>
              <a:prstGeom prst="rect">
                <a:avLst/>
              </a:prstGeom>
              <a:solidFill>
                <a:srgbClr val="c6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59000" y="4787640"/>
                <a:ext cx="6018480" cy="105840"/>
              </a:xfrm>
              <a:prstGeom prst="rect">
                <a:avLst/>
              </a:prstGeom>
              <a:solidFill>
                <a:srgbClr val="c7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59000" y="4893840"/>
                <a:ext cx="6018480" cy="10584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59000" y="4999680"/>
                <a:ext cx="6018480" cy="10476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59000" y="5104440"/>
                <a:ext cx="6018480" cy="104760"/>
              </a:xfrm>
              <a:prstGeom prst="rect">
                <a:avLst/>
              </a:prstGeom>
              <a:solidFill>
                <a:srgbClr val="c9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59000" y="5209560"/>
                <a:ext cx="6018480" cy="106920"/>
              </a:xfrm>
              <a:prstGeom prst="rect">
                <a:avLst/>
              </a:prstGeom>
              <a:solidFill>
                <a:srgbClr val="ca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59000" y="5316480"/>
                <a:ext cx="6018480" cy="10476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59000" y="5421240"/>
                <a:ext cx="6018480" cy="10584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359000" y="552744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59000" y="5632200"/>
                <a:ext cx="6018480" cy="10692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59000" y="573948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59000" y="5844240"/>
                <a:ext cx="6018480" cy="104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359000" y="461880"/>
              <a:ext cx="602100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379680" y="804960"/>
            <a:ext cx="1946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1440" y="860400"/>
            <a:ext cx="118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0480" y="860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5160" y="1604880"/>
            <a:ext cx="4468680" cy="1487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98960" y="165564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09480" y="165564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30720" y="1655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87760" y="1830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344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75840" y="1830240"/>
            <a:ext cx="163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160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7760" y="20066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344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76560" y="2006640"/>
            <a:ext cx="189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992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6536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1944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3080" y="2181240"/>
            <a:ext cx="163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16600" y="2181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6536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1944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6680" y="2355840"/>
            <a:ext cx="196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tab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23558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6536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944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5240" y="2532240"/>
            <a:ext cx="14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65680" y="2532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6536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1944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5960" y="271152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craft Ro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27600" y="2711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53160" y="3776760"/>
            <a:ext cx="2333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26400" y="3832200"/>
            <a:ext cx="140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1344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53160" y="4462560"/>
            <a:ext cx="233352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28200" y="4513320"/>
            <a:ext cx="145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port Resour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852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276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4120" y="3776760"/>
            <a:ext cx="233208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45400" y="3832200"/>
            <a:ext cx="58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9096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54120" y="4462560"/>
            <a:ext cx="233208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5120" y="45133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en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660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9084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4120" y="5262480"/>
            <a:ext cx="233208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5560" y="531324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es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91600" y="5492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44760" y="5492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53160" y="5262480"/>
            <a:ext cx="233352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4160" y="5318280"/>
            <a:ext cx="161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 Contr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78680" y="5318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76160" y="461880"/>
            <a:ext cx="583920" cy="5488200"/>
            <a:chOff x="776160" y="461880"/>
            <a:chExt cx="583920" cy="5488200"/>
          </a:xfrm>
        </p:grpSpPr>
        <p:grpSp>
          <p:nvGrpSpPr>
            <p:cNvPr id="164" name=""/>
            <p:cNvGrpSpPr/>
            <p:nvPr/>
          </p:nvGrpSpPr>
          <p:grpSpPr>
            <a:xfrm>
              <a:off x="776160" y="461880"/>
              <a:ext cx="581760" cy="5486760"/>
              <a:chOff x="776160" y="461880"/>
              <a:chExt cx="581760" cy="5486760"/>
            </a:xfrm>
          </p:grpSpPr>
          <p:sp>
            <p:nvSpPr>
              <p:cNvPr id="165" name=""/>
              <p:cNvSpPr/>
              <p:nvPr/>
            </p:nvSpPr>
            <p:spPr>
              <a:xfrm>
                <a:off x="7761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61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61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61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61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61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61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761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61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61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61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61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61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61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61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761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61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61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61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61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61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61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61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61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761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761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61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61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61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61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61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61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761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61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761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61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61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61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761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61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61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61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761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61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61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61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761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61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61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61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61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61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61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61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761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61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61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61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61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61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61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61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61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61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61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761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761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761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61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61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61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761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61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61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61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61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61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61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61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61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61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761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61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1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761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61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61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61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61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61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61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61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61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61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1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1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761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61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61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61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61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61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61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761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61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61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61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61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61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61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61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61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61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61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61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761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61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61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61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761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61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61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61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61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61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61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61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761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7761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7761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70440" y="5090400"/>
            <a:ext cx="136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HORT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1029600" y="4719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61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407880" y="1116000"/>
            <a:ext cx="125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NG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1029600" y="353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378560" y="461880"/>
            <a:ext cx="583920" cy="5488200"/>
            <a:chOff x="7378560" y="461880"/>
            <a:chExt cx="583920" cy="5488200"/>
          </a:xfrm>
        </p:grpSpPr>
        <p:grpSp>
          <p:nvGrpSpPr>
            <p:cNvPr id="301" name=""/>
            <p:cNvGrpSpPr/>
            <p:nvPr/>
          </p:nvGrpSpPr>
          <p:grpSpPr>
            <a:xfrm>
              <a:off x="7378560" y="461880"/>
              <a:ext cx="581760" cy="5486760"/>
              <a:chOff x="7378560" y="461880"/>
              <a:chExt cx="581760" cy="5486760"/>
            </a:xfrm>
          </p:grpSpPr>
          <p:sp>
            <p:nvSpPr>
              <p:cNvPr id="302" name=""/>
              <p:cNvSpPr/>
              <p:nvPr/>
            </p:nvSpPr>
            <p:spPr>
              <a:xfrm>
                <a:off x="73785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785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85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3785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785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785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785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785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3785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3785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785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785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3785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785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785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785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785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785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785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785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785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785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785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785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785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785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785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785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785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3785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785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785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785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785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785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785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785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785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785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785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785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3785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785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785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785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785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785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785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3785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785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785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785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3785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785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785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785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785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3785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785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3785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785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785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785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785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785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785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785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85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85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785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785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785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785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785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785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785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785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785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785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785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785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785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785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785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785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785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785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785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785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785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785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785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785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3785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3785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785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785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785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785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785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785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785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785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85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3785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785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785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785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785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3785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3785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785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785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785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785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85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85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85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785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785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85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785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785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785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785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785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785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3785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3785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3785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7129800" y="506052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CT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7643520" y="5804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85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7071480" y="97992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7643520" y="13068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268880" y="1147680"/>
            <a:ext cx="167760" cy="456840"/>
            <a:chOff x="4268880" y="1147680"/>
            <a:chExt cx="167760" cy="456840"/>
          </a:xfrm>
        </p:grpSpPr>
        <p:sp>
          <p:nvSpPr>
            <p:cNvPr id="438" name=""/>
            <p:cNvSpPr/>
            <p:nvPr/>
          </p:nvSpPr>
          <p:spPr>
            <a:xfrm>
              <a:off x="4351320" y="1147680"/>
              <a:ext cx="2160" cy="360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68880" y="1505880"/>
              <a:ext cx="16776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417920" y="3090960"/>
            <a:ext cx="1800" cy="342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17640" y="3433680"/>
            <a:ext cx="3302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635200" y="3433680"/>
            <a:ext cx="169560" cy="344520"/>
            <a:chOff x="2635200" y="3433680"/>
            <a:chExt cx="169560" cy="344520"/>
          </a:xfrm>
        </p:grpSpPr>
        <p:sp>
          <p:nvSpPr>
            <p:cNvPr id="443" name=""/>
            <p:cNvSpPr/>
            <p:nvPr/>
          </p:nvSpPr>
          <p:spPr>
            <a:xfrm>
              <a:off x="2717640" y="34336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35200" y="36781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937120" y="3433680"/>
            <a:ext cx="166320" cy="344520"/>
            <a:chOff x="5937120" y="3433680"/>
            <a:chExt cx="166320" cy="344520"/>
          </a:xfrm>
        </p:grpSpPr>
        <p:sp>
          <p:nvSpPr>
            <p:cNvPr id="446" name=""/>
            <p:cNvSpPr/>
            <p:nvPr/>
          </p:nvSpPr>
          <p:spPr>
            <a:xfrm>
              <a:off x="6019200" y="34336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37120" y="36781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635200" y="4119480"/>
            <a:ext cx="169560" cy="344520"/>
            <a:chOff x="2635200" y="4119480"/>
            <a:chExt cx="169560" cy="344520"/>
          </a:xfrm>
        </p:grpSpPr>
        <p:sp>
          <p:nvSpPr>
            <p:cNvPr id="449" name=""/>
            <p:cNvSpPr/>
            <p:nvPr/>
          </p:nvSpPr>
          <p:spPr>
            <a:xfrm>
              <a:off x="2717640" y="41194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5200" y="43639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635200" y="4919760"/>
            <a:ext cx="169560" cy="342360"/>
            <a:chOff x="2635200" y="4919760"/>
            <a:chExt cx="169560" cy="342360"/>
          </a:xfrm>
        </p:grpSpPr>
        <p:sp>
          <p:nvSpPr>
            <p:cNvPr id="452" name=""/>
            <p:cNvSpPr/>
            <p:nvPr/>
          </p:nvSpPr>
          <p:spPr>
            <a:xfrm>
              <a:off x="2717640" y="4919760"/>
              <a:ext cx="180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35200" y="5163480"/>
              <a:ext cx="169560" cy="9864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0" y="0"/>
                  </a:moveTo>
                  <a:lnTo>
                    <a:pt x="39" y="83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937120" y="4119480"/>
            <a:ext cx="166320" cy="344520"/>
            <a:chOff x="5937120" y="4119480"/>
            <a:chExt cx="166320" cy="344520"/>
          </a:xfrm>
        </p:grpSpPr>
        <p:sp>
          <p:nvSpPr>
            <p:cNvPr id="455" name=""/>
            <p:cNvSpPr/>
            <p:nvPr/>
          </p:nvSpPr>
          <p:spPr>
            <a:xfrm>
              <a:off x="6019200" y="41194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37120" y="43639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937120" y="4919760"/>
            <a:ext cx="166320" cy="342360"/>
            <a:chOff x="5937120" y="4919760"/>
            <a:chExt cx="166320" cy="342360"/>
          </a:xfrm>
        </p:grpSpPr>
        <p:sp>
          <p:nvSpPr>
            <p:cNvPr id="458" name=""/>
            <p:cNvSpPr/>
            <p:nvPr/>
          </p:nvSpPr>
          <p:spPr>
            <a:xfrm>
              <a:off x="6019200" y="4919760"/>
              <a:ext cx="216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37120" y="5163480"/>
              <a:ext cx="16632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0" y="2405160"/>
            <a:ext cx="77940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-475200" y="2791440"/>
            <a:ext cx="1598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ime Horiz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288360" y="23428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61400" y="2176560"/>
            <a:ext cx="77796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5400000">
            <a:off x="7396560" y="3203640"/>
            <a:ext cx="200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ypes of Decis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8365320" y="37609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2B8-1608-4EB4-89CB-DDC6E1C424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4F13C-2BEB-473D-A973-E87BE7ED15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individual aircraft hon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tenance restr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 flight specifies origin, destinatio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d departur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tribution = Revenue -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475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478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481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48006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crew (pilots and/or fl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tendants)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0F4-4402-47F5-8B00-50715AB597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6D152-99C0-462E-B121-8B4AE61BB3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1676520"/>
            <a:ext cx="7772400" cy="46861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488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D4C-2353-45F6-B493-A7562263B4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5BC27-E0A2-4A7A-A02E-886860DF45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97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324480" y="33717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371760"/>
            <a:ext cx="0" cy="1200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324120" y="4572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4480" y="2000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200016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324120" y="3143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24480" y="46782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4678200"/>
            <a:ext cx="0" cy="1036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324120" y="5715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24480" y="337176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51760" y="3371760"/>
            <a:ext cx="0" cy="2648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324480" y="601992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38F-AE79-4F4F-B011-87B1E77AB7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79E6C-6F24-4F65-9B5C-D1F1C79347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light Sched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inimum turn times = 3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447920" y="2209680"/>
          <a:ext cx="6476760" cy="4267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6002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ight 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ti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p.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rival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04A-4C7E-4FD2-B86B-70EBCDE9BB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0EF7F-FBB8-40C4-8344-E654706C32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ime-Space Flight Network Nod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cation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m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Departure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departure from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 Arrival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arrival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– min_turn_tim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(j)= arrival time of flight + min_turn_time = flight read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227-DDD9-42E4-8DC8-942EFDAED7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1F3B1-C7F2-41C9-B61E-3C34E2C18249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Space Flight Network Ar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arc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ith endnode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  is an aircraft movement in space and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Flight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 flight departing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rriving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k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 – min_turn_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Ground Arc or Connection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n aircraft on the ground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(= l(k)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om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until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D82-4B46-4212-8781-029CBF285B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77AD0-34F4-4CD7-AF1F-952EF8ADD243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3:04Z</dcterms:modified>
  <cp:revision>309</cp:revision>
  <dc:subject/>
  <dc:title>Thesis Proposal Meeting</dc:title>
</cp:coreProperties>
</file>